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F04-5D3F-4369-8C94-9395E390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B58-3EE2-4491-8F84-1F1497B9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3A7-8DEF-42C9-82AD-97EA1880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146-4C82-4CA9-84AD-136D919F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93F4-E8AD-41B4-BC8D-E1D66871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2BDE-A624-40E3-A1E7-2211291F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4464-281A-46E6-858F-CEEA9CA3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8651-B0A7-4306-94FC-765188F6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D94C-E89F-470A-A077-BA8D2E58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BB21-A218-4F58-95EA-22677E4C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DD61-344F-4D2B-9148-00D07D7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952-8DAB-45FC-86F9-C6E508B4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8783-E3C3-4474-9DF1-E4C64CEC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ECAB-16F4-44F0-8054-F6A9F546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8337-5561-4D90-B363-D0E6B753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4ABD-92A6-420C-8B6A-08DC4C6C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C403-89E9-4C70-961C-6506ADA6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CED-F858-42ED-A9BC-2C0639CE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41A-C780-4FC5-99B1-45FBB087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4DC-07F7-4D71-B5CA-0C517DCF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180-6A06-476F-B810-C1F6BA2D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213-CDCC-4658-B335-DED7C721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243C-CAA1-4995-A4C6-B6AAB6BC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DE0-D760-4BD1-ADE6-EBE4187D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8A80-4408-412A-8FB6-206AE043D6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411F-BFD6-4846-BE50-8D45AC4D69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 Black"/>
              </a:rPr>
              <a:t>ADSL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743200" y="2895480"/>
            <a:ext cx="403848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Asymmetric </a:t>
            </a:r>
            <a:endParaRPr b="0" lang="en-US" sz="4400" spc="-1" strike="noStrike">
              <a:solidFill>
                <a:srgbClr val="ffffcc"/>
              </a:solidFill>
              <a:latin typeface="Arial Black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Digital </a:t>
            </a:r>
            <a:endParaRPr b="0" lang="en-US" sz="4400" spc="-1" strike="noStrike">
              <a:solidFill>
                <a:srgbClr val="ffffcc"/>
              </a:solidFill>
              <a:latin typeface="Arial Black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Subscriber </a:t>
            </a:r>
            <a:endParaRPr b="0" lang="en-US" sz="4400" spc="-1" strike="noStrike">
              <a:solidFill>
                <a:srgbClr val="ffffcc"/>
              </a:solidFill>
              <a:latin typeface="Arial Black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Line</a:t>
            </a:r>
            <a:endParaRPr b="0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Reliabilit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ne strength of phone providers is their small number of service outages per year, something cable companies cannot claim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ven if the power goes out, you will still be able to make phone calls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nlike cable modems, your connection speed will not be affected by how much bandwidth your neighbors use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Securit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280" y="211788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dedicated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connection that ADSL uses provides more security than cable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able modem user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share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bandwidth with their neighbors.  Information traveling across the network is easier to snoop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w does ADSL work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30680" y="1885680"/>
            <a:ext cx="40053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ne phone line delivers voice and a high-speed Internet connect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oice/fax calls only use the frequencies below 4 kHz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requencies above    4 kHz are reserved for data transmiss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95160" y="2209320"/>
            <a:ext cx="0" cy="3124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334120"/>
            <a:ext cx="3429000" cy="936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1373400" y="5483880"/>
            <a:ext cx="53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25 kHz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2812680" y="5568840"/>
            <a:ext cx="70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1100 kHz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600200" y="2895480"/>
            <a:ext cx="167544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c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895480"/>
            <a:ext cx="15235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c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813320" y="4071240"/>
            <a:ext cx="11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S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458280" y="548460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0 kHz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876600" y="5523480"/>
            <a:ext cx="61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3.4 kHz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0200" y="2890800"/>
            <a:ext cx="5155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382" swAng="10798982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382" swAng="10798982"/>
              </a:path>
            </a:pathLst>
          </a:custGeom>
          <a:solidFill>
            <a:srgbClr val="cc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205200" y="416628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ice/Fa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w do I get ADSL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ADSL Service Provider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cal phone compan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cal Internet service provider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ADSL Modem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heck with your service provider for compatible modem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Histo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523880" y="1882800"/>
            <a:ext cx="0" cy="46497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280" y="2131920"/>
            <a:ext cx="99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985 -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990 -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995 -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w --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23623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ll Labs discovers a new way to make traditional copper wires support new digital servic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98760" y="32734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hone companies start deploying High-Speed DSL (HDSL) to offer T1 service on copper lines without the expense of installing repeater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9876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hone companies begin to promote ADSL as a way to enter the video marke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49528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novative companies begin to see ADSL as a way to meet the need for faster Internet acces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883120"/>
            <a:ext cx="70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SL is being deployed for fast Internet access across the United Stat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fferent types of ADSL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ll-rate ADS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versal ADSL (G.lite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Full-rate ADSL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Full-rate ADSL boasts data rates ranging from 1.5 to 8 Megabits per second “downstream” from the Internet to your computer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Upstream” data rates from your computer to the Internet are as high as 1 Mbp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Potential data rates decrease with increased distance from the phone company’s CO (central office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sts for the service are more expensive than the new, lower data rate “G.Lite” ADS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G.Lite ADSL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.Lite ADSL is a scaled-down version that delivers up to 1.5 Mbps downstream and 384 Kbps u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rvice providers will offer slower rates for lower pric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ss expensive than full-rate ADS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asier to instal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plitter vs. Splitterles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ull-rate ADSL requires that a device, known as a splitter, be installed on your phone line where it enters your home in order to separate the voice service from the data servic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.Lite ADSL will not usually require a splitter, although some homes with problematic wiring or certain types of telephones will require one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Potential Pitfall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ome equipment that phone companies have installed on their lines can seriously degrade ADSL performance.  Most service providers will test your line before offering you the service to ensure compatibility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small number of homes may require some rewiring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ere’s What You Will Learn About ADSL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at is it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at are the benefits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ow fast is it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ow does it work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ow do I get it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at can I use it for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ere is the technology headed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What can I use ADSL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aster downloads of anything digita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D-quality audi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raphics-rich websit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aster and better multimed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gh-speed multiplayer gam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Futu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roadscale, nationwide ADSL rollouts are happening toda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Given a choice … those most willing to pay for the service choose the telephone company 4½ times more frequently than cable.”  Survey,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The Yankee Group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, November 199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DSL service “in the end will be nearly ubiquitous” -Peter McGrath,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Newsweek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, November 23, 199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Summa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DSL provides a new way to use existing phone lines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t’s faster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t’s always on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Voice and data on one lin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at the same time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DSL is the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best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way to get online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What is ADSL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17884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DSL is a new broadband communication technology that creates high-speed access to the Internet and remote networks using the phone lines that are already present in your home.  ADSL is superior to analog modems in many respects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What are the benefits of ADSL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 can talk on the phone and use the Internet at  the same time on a single phone lin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 can connect to the Internet at up to 140 times faster than analog modem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r connection to the Internet is always 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r home has its own dedicated connecti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r connection is highly reliabilit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Your connection is highly secur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imultaneous Connection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alk on the phone and surf the Internet at the same time on the same phone line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You do not have to disable call waiting to connect to the Internet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on’t choose between your phone and your Internet connection anymore…          Get ADSL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Lightning Fast Interne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2960" indent="-28296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DSL offers different spee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Full-rate ADS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has the potential to deliver data at speeds up to 8 Megabits per second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G.Lite ADS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can deliver up to 1.5 Megabits per second during downloads.  This is 25 times faster than a 56K modem, and 50 times faster than a 28.8K modem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rvice providers will also offer slower rates (from 256 Kbps and up) at lower costs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DSL vs. Other Modem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712800" y="1486080"/>
          <a:ext cx="5349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12800" y="1486080"/>
                    <a:ext cx="534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52520" y="1889280"/>
          <a:ext cx="8194680" cy="49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520" y="1889280"/>
                    <a:ext cx="819468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lways 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ecause the information is transmitted separately from the voice/fax calls, your Internet connection can stay on all the time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 more logging on and off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 more busy signal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 more waiting…                               just open your browser and go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edicated Connectio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22760" y="220932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Unlike a cable modem, ADSL gives you a dedicated line to the Internet.  With cable modems, you are using a shared line with all the other users in your neighborhood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590920"/>
            <a:ext cx="2971800" cy="2895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4290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4290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7790400">
            <a:off x="1222560" y="2450880"/>
            <a:ext cx="1981440" cy="247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29" y="21"/>
                </a:moveTo>
                <a:arcTo wR="10800" hR="10800" stAng="-5613768" swAng="5613768"/>
                <a:lnTo>
                  <a:pt x="10800" y="10800"/>
                </a:lnTo>
                <a:close/>
              </a:path>
              <a:path fill="none" w="21600" h="21600">
                <a:moveTo>
                  <a:pt x="10129" y="21"/>
                </a:moveTo>
                <a:arcTo wR="10800" hR="10800" stAng="-5613768" swAng="561376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2T18:16:55Z</dcterms:created>
  <dc:creator>Kaspar Villiger?</dc:creator>
  <dc:description/>
  <dc:language>en-US</dc:language>
  <cp:lastModifiedBy>Lippuner Jürg</cp:lastModifiedBy>
  <cp:lastPrinted>1999-02-06T00:53:20Z</cp:lastPrinted>
  <dcterms:modified xsi:type="dcterms:W3CDTF">2003-01-23T10:29:37Z</dcterms:modified>
  <cp:revision>24</cp:revision>
  <dc:subject/>
  <dc:title>ADSL - Asymmetric Digital Subscriber Line</dc:title>
</cp:coreProperties>
</file>