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289-ABD8-4DEF-8E4D-308AB90A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A73-50E0-403E-AA19-EAC3467D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382-6ECF-43AE-8BA7-2D61C768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235-B0A9-4161-8E46-4A7F8B98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F09-D13B-4A7B-8993-30279127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5A9-8B45-486B-83FC-438C7DAF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703-ECCF-4211-B995-22048276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4E7-97A6-445C-8DD2-A8219894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400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48A-92E4-499C-8548-7F1451CE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DB6-3358-4B30-A52C-B6719D6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B0D-497D-4C30-B5DA-8CCD3F06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F0F-DA14-46F3-B3BB-B5EC68C4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256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7906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2096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2096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2096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336D-4521-4406-AE89-F7653B7A59DF}" type="datetime">
              <a:rPr b="0" lang="en-US" sz="16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10C6-5E92-4613-BA0C-09C7BCCA874D}" type="slidenum">
              <a:rPr b="0" lang="en-US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143000" cy="145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inladung zum Sommerfe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Verdana"/>
              </a:rPr>
              <a:t>Quartierver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rganis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114800" y="1676520"/>
          <a:ext cx="2533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676520"/>
                    <a:ext cx="2533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ürg Lippu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2AB-8220-4EA0-B300-4ADD8D390E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7E717-EC13-4F9A-AF8C-934F92777878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55720" y="1517760"/>
          <a:ext cx="690552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517760"/>
                    <a:ext cx="690552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ürg Lippu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2E2-54E5-4C8C-A335-14E4762BFA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B2337-03CD-486B-BC92-A772263A8FEC}" type="datetime1">
              <a:rPr lang="en-US"/>
              <a:t>07/29/26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brechnu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55720" y="1517760"/>
          <a:ext cx="690552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517760"/>
                    <a:ext cx="690552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ürg Lippu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B29-D6D8-4AA1-85D4-60EE4897C7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ACB4A-BEE8-4BD8-8B16-BC2E8F5D88CB}" type="datetime1">
              <a:rPr lang="en-US"/>
              <a:t>07/29/26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genüberstellu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17760" y="1681200"/>
          <a:ext cx="686124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681200"/>
                    <a:ext cx="686124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ürg Lippun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E0B-02DF-4A5F-ABB2-125A2AD87E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46CEA-94D5-40FB-8B1F-3B446F227974}" type="datetime1">
              <a:rPr lang="en-US"/>
              <a:t>07/29/26</a:t>
            </a:fld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26:12Z</dcterms:created>
  <dc:creator>Jürg Lippuner</dc:creator>
  <dc:description/>
  <dc:language>en-US</dc:language>
  <cp:lastModifiedBy>Lippuner Jürg</cp:lastModifiedBy>
  <dcterms:modified xsi:type="dcterms:W3CDTF">2002-11-03T19:51:12Z</dcterms:modified>
  <cp:revision>3</cp:revision>
  <dc:subject/>
  <dc:title>Einladung zum Sommerfest</dc:title>
</cp:coreProperties>
</file>