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8FF-56CF-48D0-8FD9-C3E75262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CB8-DCD4-4FF0-A322-4459CA64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7339-13FB-4012-B946-89113E70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0BF-0441-4CC6-B52E-328121B6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61C4-58C5-4BC5-A7BE-2F00C558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CFED-AE81-4BCE-9434-D45F1B2C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5C34-60B9-42DF-BC19-388AFB79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CF9D-FCBE-402A-A8A8-9BE294C9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9E75-0B26-429E-82F1-AB3410CC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00200" y="6091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512B-6040-427C-8699-F22418DA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C062-14AC-4BFF-8797-0BAAD534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E94-B19F-4832-A06B-F22F91F7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74E4-CC71-43E4-8732-DECBEBE4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4155-1F54-46FC-B07F-1252A09E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F7B4-11DF-4CDA-8703-5AC0B9CA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0405-9B5A-4E8D-8512-A8794AD9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A95E-7DFF-4B95-9F38-E4407781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B528-9805-455B-B4FC-92EEA190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67E-596E-47F8-9386-456D39B3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68A-C1AD-4E4B-B693-1950F06E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6091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F63-3BFC-467D-A05F-B00C50F6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660-E1F9-4343-B72C-AD5FF0FF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DE4-05B2-4388-9FAA-AA0E5BA7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A14-6101-47E8-9C24-0018A64C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4712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360" indent="-375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5044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6516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06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806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806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45E8-DE04-412B-8E85-D595C705E81C}" type="datetime3">
              <a:rPr b="0" i="1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5684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F62B-D545-46FF-BF04-AA5AE69D1CEE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O00159_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178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320" y="837720"/>
            <a:ext cx="5334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5AD7-1D12-44E7-A2BD-CE34F221F0AB}" type="datetime3">
              <a:rPr b="0" i="1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4AF1-5C91-49D4-800F-FF1849D715E3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O00159_" descr=""/>
          <p:cNvPicPr/>
          <p:nvPr/>
        </p:nvPicPr>
        <p:blipFill>
          <a:blip r:embed="rId2"/>
          <a:stretch/>
        </p:blipFill>
        <p:spPr>
          <a:xfrm>
            <a:off x="0" y="0"/>
            <a:ext cx="3675240" cy="344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Nachdem Sie die anderen Folien hier eingefügt haben, können Sie diese lös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ürg Lippun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4E7-BC0D-4CCC-8242-D3C40EE46D1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EB0F5-E3D2-4CFC-84C1-97A453F624A3}" type="datetime3">
              <a:rPr lang="en-US"/>
              <a:t>July 29, 20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8:48:04Z</dcterms:created>
  <dc:creator>Jürg Lippuner</dc:creator>
  <dc:description/>
  <dc:language>en-US</dc:language>
  <cp:lastModifiedBy>Lippuner Jürg</cp:lastModifiedBy>
  <dcterms:modified xsi:type="dcterms:W3CDTF">2002-11-03T20:38:58Z</dcterms:modified>
  <cp:revision>7</cp:revision>
  <dc:subject/>
  <dc:title>Entwicklung einer  kalorienarmen Schokolade</dc:title>
</cp:coreProperties>
</file>