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16E-6401-45C7-A17A-B247C143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4F1-E7D9-4C08-AC26-9801242C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503-9845-4032-960E-07D46036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E7B-B621-416A-B272-91AB029C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F1F-43FD-497D-A998-9BD180D8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2ED-C315-4BAD-8D6F-71F2719D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5BE-9994-4DCB-87C5-5867DB3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590-A460-4C6A-8B2D-A5C33360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755-A739-4D31-8E19-E0F5317D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CED-5B99-41FC-B736-DC794AC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3D6-60D0-4465-96F8-ADA018B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B3A-CF46-44DE-A544-047480D6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7D35-048F-4AB1-A8D3-15C5783B92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30:26Z</dcterms:created>
  <dc:creator>Wagner</dc:creator>
  <dc:description/>
  <dc:language>en-US</dc:language>
  <cp:lastModifiedBy>Wagner</cp:lastModifiedBy>
  <dcterms:modified xsi:type="dcterms:W3CDTF">2008-12-26T21:30:47Z</dcterms:modified>
  <cp:revision>1</cp:revision>
  <dc:subject/>
  <dc:title>Folie 1</dc:title>
</cp:coreProperties>
</file>