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A121-821D-4928-84B1-E67AD5B75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24E0-211F-4B8D-8FA3-BA3BEA1D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C310-EF11-4296-AB1E-F4CF65C69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F57F-EA8D-411B-9DF1-25CB4247F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BB48-79CC-4716-9284-FD91392C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E5A1-34E1-4529-9D72-6C51D63C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5697-84DE-4AE2-98BB-8648290A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BDE4-0ACE-4400-840E-95F887ED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9B88-A923-4160-85B0-5263F59C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549B-F655-47E9-B1A0-39AD2952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B399-1DC2-4825-B6C0-C787FC05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2ECB-CCA8-4352-A366-D31F8E7D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8656-763A-4BD9-B3F8-A5EE3EEFC37F}" type="slidenum">
              <a:rPr b="0" lang="de-A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21:41:48Z</dcterms:created>
  <dc:creator>Oliver Mochmann</dc:creator>
  <dc:description/>
  <dc:language>en-US</dc:language>
  <cp:lastModifiedBy>Oliver Mochmann</cp:lastModifiedBy>
  <dcterms:modified xsi:type="dcterms:W3CDTF">2007-03-02T21:46:49Z</dcterms:modified>
  <cp:revision>1</cp:revision>
  <dc:subject/>
  <dc:title>Folie 1</dc:title>
</cp:coreProperties>
</file>