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ntwicklung einer kalorienarmen Schokol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rkt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andierender Süßwarenmar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dürfnis der Käufer nach “Genuß ohne Reu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igender Absatz bei “Light”-Produk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ufbau eines Experten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rnährungswissenschaf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bensmittelchemi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rketingexpe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estlegung der Rahmenbeding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Zeitplä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wicklungsbeginn/-da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st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zrah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wicklungsko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ktionsko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ächste Schr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ue Produktionsan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rweiterung der Entwicklungsabtei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erdt Verlags GmbH</dc:creator>
  <dc:description/>
  <dc:language>en-US</dc:language>
  <cp:lastModifiedBy>Herdt Verlags GmbH</cp:lastModifiedBy>
  <cp:revision>0</cp:revision>
  <dc:subject/>
  <dc:title>Entwicklung einer kalorienarmen Schokolade</dc:title>
</cp:coreProperties>
</file>