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4211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302-2FD0-4491-B52D-4D958DC2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052-F4FD-4600-ADB2-82E8C090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2D4-B06F-443C-88AF-4B9F93E3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9DB-080E-4A4E-A7ED-ACBE39E4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E884-51D3-42BE-BB9B-F1A6D294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BBA8-87BB-43BF-AFDD-305513BC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4D66-8616-4E88-9320-9442F075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47F7-64D3-426D-BE85-9C954B14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5055-9B64-41E5-ABA9-8CF5A626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2B02-56B7-4177-AA20-FE2E3DED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2EDA-8E26-4250-B690-18CF84F9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CA2-3922-45A8-8EDD-EC3E8A5C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239E-5116-4756-9721-84F43DDF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7D40-4F2F-4663-9B46-892C5CA4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05FD-03EF-46B2-8F83-179AAA2F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FAEF-7EBD-4DD2-BF89-D5E0D9A8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3D35-A281-4EF7-A56E-732A5122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EE4-F24A-4B19-A2AF-0B0093F2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CAD-7A44-40D7-BCD8-FDB051AB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E72-401E-4CC4-BFB1-646897A5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3F7-32A3-4844-8C65-B575C213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720-23B0-4CFB-85D8-01844B67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648-BAF4-4D38-B82D-38B72BA3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CD7-F705-4200-8563-650B85AE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1D21-9958-48C3-B269-1E1CE0B168D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30B3-1813-4362-97EE-57BC4BB2B5F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Firmenentwicklung 1999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Sanoplus Arzneimitt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400800" y="4748040"/>
          <a:ext cx="2438280" cy="155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4748040"/>
                    <a:ext cx="243828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Unsere Ziele für 1999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eigerung des Gewin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nkung der Produktionskost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cherung der Marktpos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rweiterung der Entwicklungsabteilu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nbau des Hauptgebäu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Steigerung des Gewinn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itive Faktore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nkende Rohstoffprei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ationalisierung der Produk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ünstigere Bezugsquellen für Verpackung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gative Faktore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agnierender Absatz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Zunehmende Konkurrenz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ehrausgaben für Werbu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Kosten für den Anbau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ktueller Personalstand Entwicklungsabteilu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8680" y="2502000"/>
          <a:ext cx="8701200" cy="266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680" y="2502000"/>
                    <a:ext cx="870120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Raumplanu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6800" y="2063880"/>
          <a:ext cx="7678800" cy="410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800" y="2063880"/>
                    <a:ext cx="76788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ntwicklungskoste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981080"/>
          <a:ext cx="7763040" cy="41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81080"/>
                    <a:ext cx="77630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Herdt Verlags GmbH</dc:creator>
  <dc:description/>
  <dc:language>en-US</dc:language>
  <cp:lastModifiedBy>Mitarbeiter</cp:lastModifiedBy>
  <cp:lastPrinted>1995-11-30T17:43:40Z</cp:lastPrinted>
  <dcterms:modified xsi:type="dcterms:W3CDTF">1998-11-18T15:55:29Z</dcterms:modified>
  <cp:revision>9</cp:revision>
  <dc:subject/>
  <dc:title>Firmenentwicklung 1996</dc:title>
</cp:coreProperties>
</file>