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692900" cy="98488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AF29-C61E-4487-BDCD-246704179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0B7E-E5B1-41A4-A6D8-F27D418F6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3829-3BDA-499D-A014-A60C2B847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8927-2275-4699-B9CB-5A08AA102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D26A6-5B42-418E-93D9-DE2BA2860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33F55-95FD-4503-9A93-BCE3C3B21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F31D8-9465-4B79-99FE-D9D95DC86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0051F-3E4E-4A5A-8D28-B611BA676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CBE85-A73F-4915-9BEB-89331E8DC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30611-BF54-442A-8FB4-E316E31F1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50417-F593-46C8-826A-7BBF88762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92C4-9C79-4F71-89EF-2FF62050F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AB0AD-C1BB-42EB-8B28-B65D745F1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CA4FB-590D-410B-B87E-82F96D65C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BD841-B448-4BE2-8713-E78F79A06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8ABA6-CF7F-45B7-A3D8-951AAD508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E24BD-DDD2-496E-B6C3-A1E3B1D54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E35D-A0CF-4F78-B9D8-5D033A5DD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C493-76FE-4532-8706-A74096BDD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4315-65F1-43E3-9C65-1C5A01060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80B2-935D-4916-A40A-2082E29BF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7639-A42F-48D3-8F33-F614B99D8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D165-8356-46C0-BD1B-D7236F7DC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FE73-8C26-42AD-936B-BF2CBEE75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88879-98A2-4804-9489-B4E577C7FA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286A4-4C95-41E8-BC90-0D937631C4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Arial"/>
              </a:rPr>
              <a:t>Marketing-Berich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Mono &amp; Poly A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Arial"/>
              </a:rPr>
              <a:t>Unser Weg in die Zukunf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Erhöhung des Marktanteils durch Ausbau der Vertriebswe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Investitionen im Bereich Forschung und Entwicklu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Beteiligung an Gemeinschaftsforschu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Innovations-Team, Münch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Vergabe von Auftragsforschu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Arial"/>
              </a:rPr>
              <a:t>Ziel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Erreichen der Marktführerschaf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Ausweitung des Exports nach Westeurop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Entwicklung innovativer Produk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Arial"/>
              </a:rPr>
              <a:t>Jetzige Situation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oßer Konkurrenzdruc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u wenig Neukund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he Abhängigkeit von Großhändler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ückläufige Umsatzzahl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Arial"/>
              </a:rPr>
              <a:t>Umsatzübersich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689040" y="1996920"/>
          <a:ext cx="7734240" cy="405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9040" y="1996920"/>
                    <a:ext cx="7734240" cy="405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Arial"/>
              </a:rPr>
              <a:t>Gründe für diese Situation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rkaufsgebiete sind zu gro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önnen nicht optimal betreut werd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durch unzufriedene Kund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nig Neuentwicklung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Arial"/>
              </a:rPr>
              <a:t>Mögliche Alternativen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Vorschlä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Neustrukturierung der Absatzgebie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Personalbedarf im Außendienst erhöh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Besondere Betreuung des Großhande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Verstärkte Neukundenwerbu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Verbesserung des Kundendiens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Hotl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568160" indent="-22392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0130-Numm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24-Stunden-Lieferserv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Arial"/>
              </a:rPr>
              <a:t>Empfehlung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tivation der Mitarbeiter dur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msatzprämi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hulung und Weiterbildu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nsive Akquisition von Großkund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rstärkte Werbung in neuen Medi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tgerechte Preisgestaltu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ngenrabatte und Bon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03-04T00:01:22Z</dcterms:created>
  <dc:creator>W. Spath</dc:creator>
  <dc:description/>
  <dc:language>en-US</dc:language>
  <cp:lastModifiedBy>Petra Fochler</cp:lastModifiedBy>
  <cp:lastPrinted>1998-03-15T18:32:10Z</cp:lastPrinted>
  <dcterms:modified xsi:type="dcterms:W3CDTF">1998-11-05T10:03:20Z</dcterms:modified>
  <cp:revision>18</cp:revision>
  <dc:subject/>
  <dc:title>Empfehlung einer Strategie</dc:title>
</cp:coreProperties>
</file>