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2970-FBD7-4CC8-BE57-D883EB2B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E3AC-CFBD-43C2-A153-B0839821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E151-9B8D-4BAF-B8E4-2CC013C98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6860-8226-49F2-AA13-254EFA891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64AD-3EF8-4841-9058-BFEBC48B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B216-A44B-45B1-9E94-5973551C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4C08-EB91-47BD-B517-BDE42C34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4508-8385-4BAA-BBE2-94386A13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F531-F1C5-4FE5-92FD-05DF1A50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FB45-3B1C-44CC-9459-169A3A7C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5BE9-B8BF-4D2A-85B8-F08F4589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7C1F-C8B5-4B16-A40F-6062A48C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1EEB-2402-4B5F-9BD3-3E61FA45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0B62-29DF-4902-B1C0-96EB0157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6322-4DC2-4E08-8F24-4AE0DBC7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6FE5-955A-478D-86F8-B309DF77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8D0F-E25D-4CB7-9126-AD8AD3D55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B4FB-D56A-43D2-99D9-EF137AF7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5F1E-2ECF-4DFE-A368-AD6DFF4B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1783-C59B-4C86-A163-D741F19C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DABF-234D-4E6C-8203-AD020278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C353-ECE9-4DD0-A977-1FDD5684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9791-8791-4825-B046-EB3FE0C1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A50C-9AB6-4D7C-958A-7B8A2649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7CA4-F943-44CE-AFAF-6E82543D852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1722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16C2-0B5A-4961-9B43-17583EAC20E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301800"/>
                </a:solidFill>
                <a:latin typeface="Arial Narrow"/>
              </a:rPr>
              <a:t>Unser neues Modell: Der Sportschuh "Sprinter"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7238880" cy="3962160"/>
          </a:xfrm>
          <a:prstGeom prst="rect">
            <a:avLst/>
          </a:prstGeom>
          <a:solidFill>
            <a:srgbClr val="9d9c81"/>
          </a:solidFill>
          <a:ln cap="sq" w="12600">
            <a:solidFill>
              <a:srgbClr val="000000"/>
            </a:solidFill>
            <a:miter/>
          </a:ln>
          <a:effectLst>
            <a:outerShdw dist="197537" dir="2700000" blurRad="0" rotWithShape="0">
              <a:srgbClr val="614020"/>
            </a:outerShdw>
          </a:effectLst>
        </p:spPr>
        <p:txBody>
          <a:bodyPr lIns="92160" rIns="92160" tIns="46080" bIns="4608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Aktiv-Schuh Gmb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Aktiv unterwegs mit Aktiv-Schuhe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301800"/>
                </a:solidFill>
                <a:latin typeface="Arial Narrow"/>
              </a:rPr>
              <a:t>Übersicht unserer Ziele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Präsentation des Modells "Sprinter" auf der Herbstmess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Eroberung neuer Kundengruppe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Ausbau unseres Marktanteil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301800"/>
                </a:solidFill>
                <a:latin typeface="Arial Narrow"/>
              </a:rPr>
              <a:t>Kundenwünsche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Strapazierfähigkei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Bequeme Paßfor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Modisches Aussehe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Ausgeglichenes Preis-/Leistungsverhältni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301800"/>
                </a:solidFill>
                <a:latin typeface="Arial Narrow"/>
              </a:rPr>
              <a:t>Erfüllung der Kundenwünsche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Strapazierfähigkeit durch Verwendung hochwertiger Materialie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Tragekomfort durch Luftpolstereinlag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Modische Akzente durch bunte Ziersteppere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Mittlere Preislag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301800"/>
                </a:solidFill>
                <a:latin typeface="Arial Narrow"/>
              </a:rPr>
              <a:t>Was ist neu am "Sprinter"?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Spezialsohle mit federnden Noppe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Reißfeste Schnürsenk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Luftpolstereinlag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301800"/>
                </a:solidFill>
                <a:latin typeface="Arial Narrow"/>
              </a:rPr>
              <a:t>Nächster Schritt: Erarbeitung einer Marketingstrategie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Gestaltung des Messestand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Werbebeilage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Fernsehspo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6T09:41:08Z</dcterms:created>
  <dc:creator>Petra Fochler</dc:creator>
  <dc:description/>
  <dc:language>en-US</dc:language>
  <cp:lastModifiedBy>Petra Fochler</cp:lastModifiedBy>
  <cp:lastPrinted>1998-10-26T09:42:04Z</cp:lastPrinted>
  <dcterms:modified xsi:type="dcterms:W3CDTF">1998-10-26T10:51:28Z</dcterms:modified>
  <cp:revision>3</cp:revision>
  <dc:subject/>
  <dc:title>Unser neues Modell: Der Sportschuh "Sprinter"</dc:title>
</cp:coreProperties>
</file>