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897-2D5E-410E-BB7A-21554077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690-17D1-4F23-B63B-68788F58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054-8800-4652-ABCA-20033A88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5CF-4D56-4E30-AEC1-C7969FC4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DA9-55F7-4B08-B55A-3EFBB4A2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BF0-243D-46DA-A0D8-FD0969B5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343-DB59-4B56-A6C0-DC1B4535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9E7-8101-45D3-B1F4-7BFEF0D0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BF9-462E-456F-BDE8-3C611C7E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236-932A-41D3-8F83-01E6B29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004-C33C-4552-B9EA-D6B1586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62B-95AF-46A2-A4FE-3658B92F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3AF-F8BC-4566-9AA0-19FD3BF60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Verkaufsfördernde Fakt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2971800"/>
            <a:ext cx="1676160" cy="1676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9051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pa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0292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triebs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429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3429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4956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44956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2362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1814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81440" y="2895480"/>
            <a:ext cx="90144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938840" y="2895480"/>
            <a:ext cx="85248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71800" y="42667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028840" y="42667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09:29:00Z</dcterms:created>
  <dc:creator>Petra Fochler</dc:creator>
  <dc:description/>
  <dc:language>en-US</dc:language>
  <cp:lastModifiedBy>Mitarbeiter</cp:lastModifiedBy>
  <cp:lastPrinted>1998-09-30T08:26:42Z</cp:lastPrinted>
  <dcterms:modified xsi:type="dcterms:W3CDTF">1999-04-06T11:39:21Z</dcterms:modified>
  <cp:revision>2</cp:revision>
  <dc:subject/>
  <dc:title>Verkaufsfördernde Faktoren</dc:title>
</cp:coreProperties>
</file>