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EBB-8632-4F83-B557-652F2E9A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F28-A065-4BFF-9F7C-7E926C3B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002-1775-4C99-9FDC-C45B26DB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E78-468A-42F2-82F6-0D2DEE2F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A62-590F-4A42-B220-D367BE3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8FB-9713-42C3-B673-A1690BAD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547-073E-42A9-B745-0DA76523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594-6935-48A5-B2B5-A1A7A1F7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F4D-A35B-454E-8A58-0AE77367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0D6-F6AD-4302-9511-6262BAD4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AF9-F289-4644-8313-830EC305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D42-5EA4-4570-877D-BA83FB2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B1B6-8EB8-4647-9497-38A8F12E8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stunden im 4. Quar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09:29:54Z</dcterms:created>
  <dc:creator>Petra Fochler</dc:creator>
  <dc:description/>
  <dc:language>en-US</dc:language>
  <cp:lastModifiedBy>Mitarbeiter</cp:lastModifiedBy>
  <dcterms:modified xsi:type="dcterms:W3CDTF">1998-10-26T10:50:15Z</dcterms:modified>
  <cp:revision>2</cp:revision>
  <dc:subject/>
  <dc:title>Überstunden im 4. Quartal</dc:title>
</cp:coreProperties>
</file>