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C1A1-2A34-4C2E-ADD7-55EBC14CF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C5F9-B97D-4272-8752-571DDEF9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7BB7-1281-4D94-A24D-B6EA7284E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861F-5823-4EEA-8CB2-8E2D05626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77A7-19A8-47A2-AFDF-6CC584D81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E8E8-7273-4C84-B7D9-84D3E1DF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EC91-F580-440B-815E-D1B18887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CB27-3DFC-4050-81DF-98F6390D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0F56-12AF-4936-8598-EC4DBA08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0342-44D9-428A-ACCA-5339848F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658B-8821-4B05-8621-73FA4E51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9E45-401B-449E-9AE9-B2B77B46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A0BD-29A9-49E8-AA47-64D1A20C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D59F-6F35-46E4-A9BF-4764D34D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EB76-4414-49AC-BF48-A44299EC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0A88-19E9-4E8F-867E-35EA34045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A1AB-0BDF-42C7-A0C7-61241CDBC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88F6-A481-4102-AED6-131C583D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69AC-D710-4598-A408-0123E502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67A8-5211-484E-AEAB-3BCE2537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92A8-996C-475A-9976-637F6738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6B28-FDCA-4EEB-9409-978EC9B8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6FCC-0C7C-412B-810C-DFA2568E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AF1A-7CD4-446B-AFAE-0E30B6BC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63BA-E48B-4C05-B378-02FBC88CEF9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68C6-E084-4B3B-B71B-D49902C6DC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66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 Black"/>
              </a:rPr>
              <a:t>ADSL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743200" y="2895480"/>
            <a:ext cx="4038480" cy="31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Black"/>
              </a:rPr>
              <a:t>Asymmetric </a:t>
            </a:r>
            <a:endParaRPr b="0" lang="en-US" sz="4400" spc="-1" strike="noStrike">
              <a:solidFill>
                <a:srgbClr val="ffffcc"/>
              </a:solidFill>
              <a:latin typeface="Arial Black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Black"/>
              </a:rPr>
              <a:t>Digital </a:t>
            </a:r>
            <a:endParaRPr b="0" lang="en-US" sz="4400" spc="-1" strike="noStrike">
              <a:solidFill>
                <a:srgbClr val="ffffcc"/>
              </a:solidFill>
              <a:latin typeface="Arial Black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Black"/>
              </a:rPr>
              <a:t>Subscriber </a:t>
            </a:r>
            <a:endParaRPr b="0" lang="en-US" sz="4400" spc="-1" strike="noStrike">
              <a:solidFill>
                <a:srgbClr val="ffffcc"/>
              </a:solidFill>
              <a:latin typeface="Arial Black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Black"/>
              </a:rPr>
              <a:t>Line</a:t>
            </a:r>
            <a:endParaRPr b="0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ADSL Reliabilit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One strength of phone providers is their small number of service outages per year, something cable companies cannot claim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Even if the power goes out, you will still be able to make phone calls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Unlike cable modems, your connection speed will not be affected by how much bandwidth your neighbors use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ADSL Securit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1280" y="211788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e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</a:rPr>
              <a:t>dedicated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connection that ADSL uses provides more security than cable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able modem users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</a:rPr>
              <a:t>share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bandwidth with their neighbors.  Information traveling across the network is easier to snoop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How does ADSL work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30680" y="1885680"/>
            <a:ext cx="40053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One phone line delivers voice and a high-speed Internet connection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Voice/fax calls only use the frequencies below 4 kHz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requencies above    4 kHz are reserved for data transmission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95160" y="2209320"/>
            <a:ext cx="0" cy="31244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5334120"/>
            <a:ext cx="3429000" cy="936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1373400" y="5483880"/>
            <a:ext cx="53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Times New Roman"/>
              </a:rPr>
              <a:t>25 kHz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2812680" y="5568840"/>
            <a:ext cx="70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Times New Roman"/>
              </a:rPr>
              <a:t>1100 kHz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600200" y="2895480"/>
            <a:ext cx="1675440" cy="487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cc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2895480"/>
            <a:ext cx="1523520" cy="487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cc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1813320" y="4071240"/>
            <a:ext cx="11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DS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458280" y="5484600"/>
            <a:ext cx="53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Times New Roman"/>
              </a:rPr>
              <a:t>0 kHz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876600" y="5523480"/>
            <a:ext cx="61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Times New Roman"/>
              </a:rPr>
              <a:t>3.4 kHz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0200" y="2890800"/>
            <a:ext cx="515520" cy="487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382" swAng="10798982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382" swAng="10798982"/>
              </a:path>
            </a:pathLst>
          </a:custGeom>
          <a:solidFill>
            <a:srgbClr val="cc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205200" y="4166280"/>
            <a:ext cx="14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oice/Fa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How do I get ADSL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</a:rPr>
              <a:t>ADSL Service Provider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Local phone companie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Local Internet service provider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</a:rPr>
              <a:t>ADSL Modem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heck with your service provider for compatible modem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ADSL Histor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523880" y="1882800"/>
            <a:ext cx="0" cy="464976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9280" y="2131920"/>
            <a:ext cx="9907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1985 -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1990 -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1995 -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Now -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00200" y="2362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Bell Labs discovers a new way to make traditional copper wires support new digital servic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98760" y="327348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hone companies start deploying High-Speed DSL (HDSL) to offer T1 service on copper lines without the expense of installing repeater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98760" y="41148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hone companies begin to promote ADSL as a way to enter the video marke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3880" y="495288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Innovative companies begin to see ADSL as a way to meet the need for faster Internet acces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5883120"/>
            <a:ext cx="704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DSL is being deployed for fast Internet access across the United State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Different types of ADSL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ull-rate ADSL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niversal ADSL (G.lite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Full-rate ADSL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Full-rate ADSL boasts data rates ranging from 1.5 to 8 Megabits per second “downstream” from the Internet to your computer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Upstream” data rates from your computer to the Internet are as high as 1 Mbps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Potential data rates decrease with increased distance from the phone company’s CO (central office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Costs for the service are more expensive than the new, lower data rate “G.Lite” ADSL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G.Lite ADSL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G.Lite ADSL is a scaled-down version that delivers up to 1.5 Mbps downstream and 384 Kbps up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ervice providers will offer slower rates for lower price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Less expensive than full-rate ADS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Easier to instal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Splitter vs. Splitterles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ull-rate ADSL requires that a device, known as a splitter, be installed on your phone line where it enters your home in order to separate the voice service from the data servic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G.Lite ADSL will not usually require a splitter, although some homes with problematic wiring or certain types of telephones will require one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Potential Pitfall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ome equipment that phone companies have installed on their lines can seriously degrade ADSL performance.  Most service providers will test your line before offering you the service to ensure compatibility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 small number of homes may require some rewiring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Here’s What You Will Learn About ADSL!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What is it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What are the benefits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How fast is it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How does it work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How do I get it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What can I use it for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Where is the technology headed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What can I use ADSL for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aster downloads of anything digita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D-quality audio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Graphics-rich website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aster and better multimedi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High-speed multiplayer game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ADSL Futur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Broadscale, nationwide ADSL rollouts are happening today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Given a choice … those most willing to pay for the service choose the telephone company 4½ times more frequently than cable.”  Survey,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</a:rPr>
              <a:t>The Yankee Group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, November 1998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ADSL service “in the end will be nearly ubiquitous” -Peter McGrath,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</a:rPr>
              <a:t>Newsweek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, November 23, 1998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ADSL Summar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DSL provides a new way to use existing phone lines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t’s faster!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t’s always on!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Voice and data on one line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</a:rPr>
              <a:t>at the same time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DSL is the 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best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way to get online!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What is ADSL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2666880"/>
            <a:ext cx="8178840" cy="31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DSL is a new broadband communication technology that creates high-speed access to the Internet and remote networks using the phone lines that are already present in your home.  ADSL is superior to analog modems in many respects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What are the benefits of ADSL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You can talk on the phone and use the Internet at  the same time on a single phone line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You can connect to the Internet at up to 140 times faster than analog modem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Your connection to the Internet is always on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Your home has its own dedicated connection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Your connection is highly reliability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Your connection is highly secure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Simultaneous Connection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alk on the phone and surf the Internet at the same time on the same phone line!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You do not have to disable call waiting to connect to the Internet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Don’t choose between your phone and your Internet connection anymore…          Get ADSL!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Lightning Fast Interne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178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2960" indent="-28296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DSL offers different speed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</a:rPr>
              <a:t>Full-rate ADSL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has the potential to deliver data at speeds up to 8 Megabits per second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</a:rPr>
              <a:t>G.Lite ADSL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can deliver up to 1.5 Megabits per second during downloads.  This is 25 times faster than a 56K modem, and 50 times faster than a 28.8K modem!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ervice providers will also offer slower rates (from 256 Kbps and up) at lower costs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ADSL vs. Other Modem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-712800" y="1486080"/>
          <a:ext cx="53496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12800" y="1486080"/>
                    <a:ext cx="5349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452520" y="1889280"/>
          <a:ext cx="8194680" cy="496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2520" y="1889280"/>
                    <a:ext cx="819468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Always On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Because the information is transmitted separately from the voice/fax calls, your Internet connection can stay on all the time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No more logging on and off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No more busy signal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No more waiting…                               just open your browser and go!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Dedicated Connection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22760" y="220932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Unlike a cable modem, ADSL gives you a dedicated line to the Internet.  With cable modems, you are using a shared line with all the other users in your neighborhood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2590920"/>
            <a:ext cx="2971800" cy="28954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3429000"/>
            <a:ext cx="30492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43200" y="3429000"/>
            <a:ext cx="30492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7790400">
            <a:off x="1222560" y="2450880"/>
            <a:ext cx="1981440" cy="247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29" y="21"/>
                </a:moveTo>
                <a:arcTo wR="10800" hR="10800" stAng="-5613768" swAng="5613768"/>
                <a:lnTo>
                  <a:pt x="10800" y="10800"/>
                </a:lnTo>
                <a:close/>
              </a:path>
              <a:path fill="none" w="21600" h="21600">
                <a:moveTo>
                  <a:pt x="10129" y="21"/>
                </a:moveTo>
                <a:arcTo wR="10800" hR="10800" stAng="-5613768" swAng="5613768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2T18:16:55Z</dcterms:created>
  <dc:creator>Kaspar Villiger?</dc:creator>
  <dc:description/>
  <dc:language>en-US</dc:language>
  <cp:lastModifiedBy>Lippuner Jürg</cp:lastModifiedBy>
  <cp:lastPrinted>1999-02-06T00:53:20Z</cp:lastPrinted>
  <dcterms:modified xsi:type="dcterms:W3CDTF">2003-01-23T10:29:37Z</dcterms:modified>
  <cp:revision>24</cp:revision>
  <dc:subject/>
  <dc:title>ADSL - Asymmetric Digital Subscriber Line</dc:title>
</cp:coreProperties>
</file>