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E7E-8A05-4187-8FFC-B61871B7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2BB-92AF-40AA-B70B-2C87821C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571-B477-4DEB-BCE7-463CA55F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59D-A587-4CB5-B91B-5D3E0E82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C32-B77C-431D-A98B-6611AB7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85A-0F72-4D83-A34A-90C83B39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5AB-070D-41D1-AD0D-EFF1795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F50-A79B-4E4F-A59E-A03B859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CBA-4395-4F6F-9AAD-9357FF0D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95E-F912-4EA0-8FB7-FADFFD8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837-245C-4992-95C9-77E46D5B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AFE-6CEF-4F50-965F-1B8C3194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7906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2096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2096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463D-2CD0-45EC-ACD8-CEAEB29C1C7C}" type="datetime">
              <a:rPr b="0" lang="en-US" sz="16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310D-7B6D-4BE2-B379-7E7E536BB335}" type="slidenum">
              <a:rPr b="0" lang="en-U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143000" cy="14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nladung zum Sommerf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Verdana"/>
              </a:rPr>
              <a:t>Quartierver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114800" y="1676520"/>
          <a:ext cx="253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676520"/>
                    <a:ext cx="253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D28-390A-4C2B-94A4-0B9A762340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F46DC-FC1F-43B2-8979-AD5BF025AB7B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55720" y="1517760"/>
          <a:ext cx="690552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17760"/>
                    <a:ext cx="690552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76A-AAAB-4ECE-9836-690C73DC44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82E79-BDA6-4683-896E-A0803C68FFD4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rechn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55720" y="1517760"/>
          <a:ext cx="690552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17760"/>
                    <a:ext cx="690552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F2A-74A1-4256-86CD-C5CB4D6D04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F7618-4FCA-4393-AB03-B4EBC8FCAC6E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genüberstell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17760" y="1681200"/>
          <a:ext cx="686124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681200"/>
                    <a:ext cx="686124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C96-5EBE-47DA-8D30-D0BD2DB5CC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633DC-814A-488F-A0A2-AF5D1F08DFCF}" type="datetime1">
              <a:rPr lang="en-US"/>
              <a:t>07/31/26</a:t>
            </a:fld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26:12Z</dcterms:created>
  <dc:creator>Jürg Lippuner</dc:creator>
  <dc:description/>
  <dc:language>en-US</dc:language>
  <cp:lastModifiedBy>Lippuner Jürg</cp:lastModifiedBy>
  <dcterms:modified xsi:type="dcterms:W3CDTF">2002-11-03T19:51:12Z</dcterms:modified>
  <cp:revision>3</cp:revision>
  <dc:subject/>
  <dc:title>Einladung zum Sommerfest</dc:title>
</cp:coreProperties>
</file>