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F34-9FD9-43FE-8E2C-962EE9E0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9CA-ABD0-4B74-8FD7-60C331F0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343-0491-455A-9F55-2BCBE83B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AB5-BB1E-40E0-A80D-6D87AD5B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7825-0F06-4115-B5CB-1828D32E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5D24-0059-403C-99BF-F5F8B50D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495F-218F-4A9F-B2A8-EE6AE2B8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D41F-AEF9-4F47-8ADC-8E65FA47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9039-056B-4504-BB17-3EBF71FB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043C-6F7A-4FE8-9333-B7D36EDE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8210-753D-4313-A4ED-01946146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5EB-53A3-4818-9A27-EB45299C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BC12-1233-417B-B20A-CAE57352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1957-C79B-448F-85B3-B2547F7D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AD2F-A060-466A-A63C-8946C9B0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53F6-23C7-4BD2-93B5-31B190F7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42CF-5067-4BEA-85ED-B6B9730B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6D0-5F89-438A-ACAB-E64397E8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F60-0316-4E45-842B-954C0198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9D4-BD38-4CDB-B924-7A2AA66D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100-D3EB-4EBD-B7DF-E940FDE1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318-68D4-4F6B-B005-BE69A601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DA2-99CB-49FF-A07B-4B4F2BA8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CD7-E5A0-4973-92E2-32854A25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360" indent="-375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5044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6516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06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06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06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FD52-30CC-43BE-85D7-2CD2B4FC3D8C}" type="datetime3">
              <a:rPr b="0" i="1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5684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E321-869E-40D8-B4E2-7ED50A8F278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O00159_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178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320" y="837720"/>
            <a:ext cx="5334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113D-21D0-45AD-9F8C-AAC2ECA7094D}" type="datetime3">
              <a:rPr b="0" i="1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C112-A919-4FBE-AC65-4F5112987D7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O00159_" descr=""/>
          <p:cNvPicPr/>
          <p:nvPr/>
        </p:nvPicPr>
        <p:blipFill>
          <a:blip r:embed="rId2"/>
          <a:stretch/>
        </p:blipFill>
        <p:spPr>
          <a:xfrm>
            <a:off x="0" y="0"/>
            <a:ext cx="3675240" cy="344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Nachdem Sie die anderen Folien hier eingefügt haben, können Sie diese lös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ürg Lippun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391-59DE-45A3-9E49-986712E5327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BE644-8B3E-48BA-8BAD-1E0CC942F5EA}" type="datetime3">
              <a:rPr lang="en-US"/>
              <a:t>July 31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48:04Z</dcterms:created>
  <dc:creator>Jürg Lippuner</dc:creator>
  <dc:description/>
  <dc:language>en-US</dc:language>
  <cp:lastModifiedBy>Lippuner Jürg</cp:lastModifiedBy>
  <dcterms:modified xsi:type="dcterms:W3CDTF">2002-11-03T20:38:58Z</dcterms:modified>
  <cp:revision>7</cp:revision>
  <dc:subject/>
  <dc:title>Entwicklung einer  kalorienarmen Schokolade</dc:title>
</cp:coreProperties>
</file>