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custShowLst>
    <p:custShow name="Begrüssung" id="0">
      <p:sldLst>
        <p:sld r:id="rId5"/>
        <p:sld r:id="rId6"/>
        <p:sld r:id="rId7"/>
        <p:sld r:id="rId8"/>
      </p:sldLst>
    </p:custShow>
    <p:custShow name="Verwaltungsrat" id="1">
      <p:sldLst>
        <p:sld r:id="rId5"/>
        <p:sld r:id="rId12"/>
        <p:sld r:id="rId13"/>
        <p:sld r:id="rId11"/>
        <p:sld r:id="rId10"/>
        <p:sld r:id="rId19"/>
        <p:sld r:id="rId20"/>
      </p:sldLst>
    </p:custShow>
    <p:custShow name="Publikum" id="2">
      <p:sldLst>
        <p:sld r:id="rId5"/>
        <p:sld r:id="rId6"/>
        <p:sld r:id="rId7"/>
        <p:sld r:id="rId8"/>
        <p:sld r:id="rId9"/>
        <p:sld r:id="rId10"/>
        <p:sld r:id="rId11"/>
        <p:sld r:id="rId12"/>
        <p:sld r:id="rId13"/>
        <p:sld r:id="rId14"/>
        <p:sld r:id="rId15"/>
        <p:sld r:id="rId16"/>
        <p:sld r:id="rId17"/>
        <p:sld r:id="rId18"/>
        <p:sld r:id="rId19"/>
        <p:sld r:id="rId20"/>
        <p:sld r:id="rId21"/>
        <p:sld r:id="rId22"/>
        <p:sld r:id="rId23"/>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D422-44AF-49AC-BA82-0BF61EA9CAA6}"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erkaufen von Ideen ist herausfordernd.  Zuerst müssen Sie Ihr Publikum dazu bringen, mit Ihren Prinzipien übereinzustimmen. Danach müssen Sie sie zum Handeln auffor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Dale Carnegie Training® 'Begründung-Aufforderung-Nutzen-Formel' bietet einen erfolgreichen Prozess, um eine motivierende, aktionsorientierte Präsentation zu halte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43AB-34A6-41F7-B211-DD2D6EDA5C7A}"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öffnen Sie Ihre Präsentation mit einem Aufmerksamkeit erregenden Beispiel. Wählen Sie ein Beispiel, das auf Ihr Publikum zugeschnitten ist. Das Beispiel soll begründen, warum Ihre Aktion zu unterstützen ist, und soll den Nutzen der Aktion beweisen. Das Eröffnen mit einem motivierenden Beispiel stellt Ihr Publikum auf den folgenden Aktionsschritt ei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06E9-C5D5-42D9-B221-8C4B14E0862B}"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Nächstes beschreiben Sie den Aktionsschritt. Stellen Sie Ihren Aktionsschritt spezifisch, klar und kurz dar. Stellen Sie deutlich heraus, dass Sie sich vorstellen können, dass Ihr Publikum die Aktion durchführen kann. Wenn Sie sich es nicht vorstellen können, dann kann es Ihr Publikum auch nicht. Seien Sie selbstsicher, wenn Sie den Aktionsschritt darstellen, dadurch motivieren Sie Ihr Publiku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3D22-A4E8-4FAE-A13C-5411DAAFBA9E}"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 die Dale Carnegie Training® 'Begründung-Aufforderung-Nutzen-Formel' anzuwenden, begründen Sie die Aufforderung mit dem Nutzen für Ihr Publikum. Beziehen Sie das Interesse Ihres Publikums, deren  Bedürfnisse und Vorlieben mit ein. </a:t>
            </a:r>
            <a:r>
              <a:rPr b="0" lang="de-DE" sz="1100" spc="-1" strike="noStrike">
                <a:solidFill>
                  <a:srgbClr val="000000"/>
                </a:solidFill>
                <a:latin typeface="Times New Roman"/>
              </a:rPr>
              <a:t>Stellen Sie den Nutzen heraus, dies können Sie in Form von Statistiken, Demonstrationen, Attesten, Vorfällen oder Anschauungsmaterial erbringen.</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CB32-7159-4C54-BF52-33C37C4201F4}"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m Schluss wiederholen Sie die spezifischen Aktionen und deren Nutzen. Sprechen Sie mit Überzeugung und Vertrauen und Sie werden Ihre Ideen verkauf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4AA18-C82C-4B0F-A868-6B44A9A37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83DC-6553-4EF5-8467-7D0EC7BA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2FA34-E29A-49A2-8096-404EF8A92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0A1EC-B1C6-4BD8-B7F8-187B43A6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99060-788D-4FD9-A0AA-00DDA9F54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37C6D-401F-4C4E-98B0-C48FE126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B3C02-E1F3-4533-9B44-A1ABCF23C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CEE08-9E6B-437B-B7CD-89E9C9E60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AE747-02B7-4732-B0EA-376AAF76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F9624-03F3-4493-94C4-E537DFA21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207BB-84D0-4C91-8E56-3FAB3BFA2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D223-A118-4D8A-BD7A-EE6FF7F0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0C66-4485-40F5-BA56-0453A781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D8B2A-561A-4CAD-BB16-C05C80106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485B-7EDB-4B44-B349-0D840049D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1E439-BBC2-40D6-B52C-2A11755FD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CF2D1-843E-49FB-8050-7B63496CB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8675E-18AB-4CAE-8790-CBE3B9B1E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A15F9-91EF-4454-AC12-F4D1CD57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BE8C6-B926-4E2D-8114-743A9A3E4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E0DF-AAAB-4F97-8660-C8203507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A3C3-EC5F-47B0-8D98-87BF5D4C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DD05-4E19-4EBB-A1EF-F37996DE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057C-D224-46B2-A14A-A4C698C97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2BB1-6984-41E4-AC7B-87FCD14BF13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4"/>
          <a:stretch/>
        </p:blipFill>
        <p:spPr>
          <a:xfrm>
            <a:off x="0" y="0"/>
            <a:ext cx="140976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50760"/>
            <a:ext cx="1181160" cy="4286160"/>
          </a:xfrm>
          <a:prstGeom prst="rect">
            <a:avLst/>
          </a:prstGeom>
          <a:ln w="0">
            <a:noFill/>
          </a:ln>
        </p:spPr>
      </p:pic>
      <p:sp>
        <p:nvSpPr>
          <p:cNvPr id="48"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minispir" descr=""/>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1"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9B6E-2A9C-4932-A296-6C809157CE3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6"/>
          <a:stretch/>
        </p:blipFill>
        <p:spPr>
          <a:xfrm>
            <a:off x="0" y="0"/>
            <a:ext cx="1409760" cy="160020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Verkauf.ppt" TargetMode="External"/><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rzlich willkommen</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ute laden wir Sie alle ein, unsere Gäste zu sein.</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5E5341C-8D5A-447B-9883-0D0063BE3086}" type="slidenum">
              <a:t>1</a:t>
            </a:fld>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Mitarbeiter</a:t>
            </a:r>
            <a:endParaRPr b="0" lang="en-US" sz="4400" spc="-1" strike="noStrike">
              <a:solidFill>
                <a:srgbClr val="221304"/>
              </a:solidFill>
              <a:latin typeface="Times New Roman"/>
            </a:endParaRPr>
          </a:p>
        </p:txBody>
      </p:sp>
      <p:sp>
        <p:nvSpPr>
          <p:cNvPr id="1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schäftsleitu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eilungsleiterIn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tarbeiterIn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11E64-B00C-46EE-86C3-1CD25CD72B32}" type="slidenum">
              <a:t>10</a:t>
            </a:fld>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Kunden</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undensegmen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unden nach Regio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3B9A8A-9A9A-4A47-A6EE-FE4313CED16F}" type="slidenum">
              <a:t>11</a:t>
            </a:fld>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Lieferanten</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rd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ftw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BD09C2-96D0-4B6B-819E-40910111B062}" type="slidenum">
              <a:t>12</a:t>
            </a:fld>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Dinner</a:t>
            </a: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r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kleidu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enü</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terhaltu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EACDBD-E35D-4CF1-BD98-B1BF94082B6C}"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Gäste</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lympiasieg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ltmeisteri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C3368-18CB-43B5-A10B-4799E94F10F0}" type="slidenum">
              <a:t>14</a:t>
            </a:fld>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114300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verkaufen Systeme</a:t>
            </a:r>
            <a:endParaRPr b="0" lang="en-US" sz="4400" spc="-1" strike="noStrike">
              <a:solidFill>
                <a:srgbClr val="221304"/>
              </a:solidFill>
              <a:latin typeface="Times New Roman"/>
            </a:endParaRPr>
          </a:p>
        </p:txBody>
      </p:sp>
      <p:sp>
        <p:nvSpPr>
          <p:cNvPr id="15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ysteme, die Ihnen dienen</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9A92102-762E-49BD-9F53-398A1EBEC9F8}" type="slidenum">
              <a:t>15</a:t>
            </a:fld>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lösen gerne Probleme...</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EDV soll die Administration erleich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EDV ist ein Hilfsmittel, die gesteckten Ziele zu erreich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3CF41E-9E5E-4486-9E27-75F8A858D19F}" type="slidenum">
              <a:t>16</a:t>
            </a:fld>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Ihre Wünsche</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eschreiben Sie uns Ihre Wünsche, Ihre Probleme. Wo verlieren Sie mit der EDV unnötig Z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it einer projektorientierten Zeiterfassung können Sie die Stunden direkt vom Arbeitsrapport auf die Kundenrechnung übernehm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6D0B5A-636A-4DE1-BAAF-EA6A983FAC8C}" type="slidenum">
              <a:t>17</a:t>
            </a:fld>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Ihre Vorteile</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Erhöhte Effizien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sind liquider durch prompte Fakturieru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haben eine genaue Zeitkontrolle für Ihre Mitarbei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le Stunden werden automomatisch erfas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90E0F-161E-429E-ADDF-FE51D52D7937}" type="slidenum">
              <a:t>18</a:t>
            </a:fld>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fordern Sie auf...</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achen Sie einen Versu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können nur gewinn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erlangen Sie eine unverbindliche Offer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r freuen uns, Sie beraten zu dürf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87613D-B7CF-4F9D-B9C9-C073917ABF83}" type="slidenum">
              <a:t>19</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ndgang</a:t>
            </a:r>
            <a:endParaRPr b="0" lang="en-US" sz="4400" spc="-1" strike="noStrike">
              <a:solidFill>
                <a:srgbClr val="221304"/>
              </a:solidFill>
              <a:latin typeface="Times New Roman"/>
            </a:endParaRPr>
          </a:p>
        </p:txBody>
      </p:sp>
      <p:sp>
        <p:nvSpPr>
          <p:cNvPr id="102" name=""/>
          <p:cNvSpPr/>
          <p:nvPr/>
        </p:nvSpPr>
        <p:spPr>
          <a:xfrm>
            <a:off x="1219320" y="1523880"/>
            <a:ext cx="5638680" cy="1524240"/>
          </a:xfrm>
          <a:prstGeom prst="rightArrow">
            <a:avLst>
              <a:gd name="adj1" fmla="val 50000"/>
              <a:gd name="adj2" fmla="val 92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gen Sie den gelben Wegweisern</a:t>
            </a:r>
            <a:endParaRPr b="0" lang="en-US" sz="2400" spc="-1" strike="noStrike">
              <a:solidFill>
                <a:srgbClr val="000000"/>
              </a:solidFill>
              <a:latin typeface="Times New Roman"/>
            </a:endParaRPr>
          </a:p>
        </p:txBody>
      </p:sp>
      <p:sp>
        <p:nvSpPr>
          <p:cNvPr id="103" name=""/>
          <p:cNvSpPr/>
          <p:nvPr/>
        </p:nvSpPr>
        <p:spPr>
          <a:xfrm>
            <a:off x="914400" y="3733920"/>
            <a:ext cx="1523880" cy="16002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581280" y="4495680"/>
            <a:ext cx="1524240" cy="16002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ftware</a:t>
            </a:r>
            <a:endParaRPr b="0" lang="en-US" sz="2400" spc="-1" strike="noStrike">
              <a:solidFill>
                <a:srgbClr val="000000"/>
              </a:solidFill>
              <a:latin typeface="Times New Roman"/>
            </a:endParaRPr>
          </a:p>
        </p:txBody>
      </p:sp>
      <p:sp>
        <p:nvSpPr>
          <p:cNvPr id="105" name=""/>
          <p:cNvSpPr/>
          <p:nvPr/>
        </p:nvSpPr>
        <p:spPr>
          <a:xfrm rot="1867800">
            <a:off x="2514600" y="4800240"/>
            <a:ext cx="976320" cy="485640"/>
          </a:xfrm>
          <a:prstGeom prst="rightArrow">
            <a:avLst>
              <a:gd name="adj1" fmla="val 50000"/>
              <a:gd name="adj2" fmla="val 502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9597200">
            <a:off x="5181480" y="5486040"/>
            <a:ext cx="976320" cy="485640"/>
          </a:xfrm>
          <a:prstGeom prst="rightArrow">
            <a:avLst>
              <a:gd name="adj1" fmla="val 50000"/>
              <a:gd name="adj2" fmla="val 502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7146200">
            <a:off x="6993360" y="344556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BS00089_" descr=""/>
          <p:cNvPicPr/>
          <p:nvPr/>
        </p:nvPicPr>
        <p:blipFill>
          <a:blip r:embed="rId3"/>
          <a:stretch/>
        </p:blipFill>
        <p:spPr>
          <a:xfrm>
            <a:off x="1219320" y="4038480"/>
            <a:ext cx="823680" cy="973080"/>
          </a:xfrm>
          <a:prstGeom prst="rect">
            <a:avLst/>
          </a:prstGeom>
          <a:ln w="0">
            <a:noFill/>
          </a:ln>
        </p:spPr>
      </p:pic>
      <p:grpSp>
        <p:nvGrpSpPr>
          <p:cNvPr id="109" name=""/>
          <p:cNvGrpSpPr/>
          <p:nvPr/>
        </p:nvGrpSpPr>
        <p:grpSpPr>
          <a:xfrm>
            <a:off x="5867280" y="3962520"/>
            <a:ext cx="1523880" cy="1600200"/>
            <a:chOff x="5867280" y="3962520"/>
            <a:chExt cx="1523880" cy="1600200"/>
          </a:xfrm>
        </p:grpSpPr>
        <p:sp>
          <p:nvSpPr>
            <p:cNvPr id="110" name=""/>
            <p:cNvSpPr/>
            <p:nvPr/>
          </p:nvSpPr>
          <p:spPr>
            <a:xfrm>
              <a:off x="5867280" y="3962520"/>
              <a:ext cx="1523880" cy="160020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txBox="1"/>
            <p:nvPr/>
          </p:nvSpPr>
          <p:spPr>
            <a:xfrm>
              <a:off x="5943600" y="4496040"/>
              <a:ext cx="1371600" cy="533520"/>
            </a:xfrm>
            <a:prstGeom prst="rect">
              <a:avLst/>
            </a:prstGeom>
          </p:spPr>
          <p:txBody>
            <a:bodyPr wrap="none" lIns="90000" rIns="90000" tIns="46800" bIns="46800" anchor="t" anchorCtr="1">
              <a:prstTxWarp prst="textDeflate">
                <a:avLst>
                  <a:gd name="adj" fmla="val 30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Impact"/>
                </a:rPr>
                <a:t>Support</a:t>
              </a:r>
              <a:endParaRPr b="0" lang="en-US" sz="900" spc="1" strike="noStrike">
                <a:ln w="9360">
                  <a:solidFill>
                    <a:srgbClr val="000000"/>
                  </a:solidFill>
                  <a:miter/>
                </a:ln>
                <a:solidFill>
                  <a:srgbClr val="000000"/>
                </a:solidFill>
                <a:latin typeface="Impact"/>
                <a:ea typeface="Impact"/>
              </a:endParaRPr>
            </a:p>
          </p:txBody>
        </p:sp>
      </p:grpSp>
      <p:sp>
        <p:nvSpPr>
          <p:cNvPr id="112" name=""/>
          <p:cNvSpPr/>
          <p:nvPr/>
        </p:nvSpPr>
        <p:spPr>
          <a:xfrm>
            <a:off x="1221120" y="43434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W</a:t>
            </a:r>
            <a:endParaRPr b="0" lang="en-US" sz="2400" spc="-1" strike="noStrike">
              <a:solidFill>
                <a:srgbClr val="000000"/>
              </a:solidFill>
              <a:latin typeface="Times New Roman"/>
            </a:endParaRPr>
          </a:p>
        </p:txBody>
      </p:sp>
      <p:pic>
        <p:nvPicPr>
          <p:cNvPr id="113" name="" descr=""/>
          <p:cNvPicPr/>
          <p:nvPr/>
        </p:nvPicPr>
        <p:blipFill>
          <a:blip r:embed="rId5"/>
          <a:stretch/>
        </p:blipFill>
        <p:spPr>
          <a:xfrm>
            <a:off x="7086600" y="1676520"/>
            <a:ext cx="1371600" cy="1371600"/>
          </a:xfrm>
          <a:prstGeom prst="rect">
            <a:avLst/>
          </a:prstGeom>
          <a:ln w="0">
            <a:noFill/>
          </a:ln>
        </p:spPr>
      </p:pic>
      <p:sp>
        <p:nvSpPr>
          <p:cNvPr id="3" name="PlaceHolder 2"/>
          <p:cNvSpPr>
            <a:spLocks noGrp="1"/>
          </p:cNvSpPr>
          <p:nvPr>
            <p:ph type="sldNum" idx="3"/>
          </p:nvPr>
        </p:nvSpPr>
        <p:spPr/>
        <p:txBody>
          <a:bodyPr/>
          <a:p>
            <a:fld id="{5B5D9791-E359-46D8-A5EF-C94752E286CC}" type="slidenum">
              <a:t>2</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rganigramm</a:t>
            </a:r>
            <a:endParaRPr b="0" lang="en-US" sz="4400" spc="-1" strike="noStrike">
              <a:solidFill>
                <a:srgbClr val="221304"/>
              </a:solidFill>
              <a:latin typeface="Times New Roman"/>
            </a:endParaRPr>
          </a:p>
        </p:txBody>
      </p:sp>
      <p:graphicFrame>
        <p:nvGraphicFramePr>
          <p:cNvPr id="115" name=""/>
          <p:cNvGraphicFramePr/>
          <p:nvPr/>
        </p:nvGraphicFramePr>
        <p:xfrm>
          <a:off x="1546200" y="2343240"/>
          <a:ext cx="6051600" cy="2171520"/>
        </p:xfrm>
        <a:graphic>
          <a:graphicData uri="http://schemas.openxmlformats.org/presentationml/2006/ole">
            <p:oleObj r:id="rId1" spid="">
              <p:embed/>
              <p:pic>
                <p:nvPicPr>
                  <p:cNvPr id="116" name="" descr=""/>
                  <p:cNvPicPr/>
                  <p:nvPr/>
                </p:nvPicPr>
                <p:blipFill>
                  <a:blip r:embed="rId2"/>
                  <a:stretch/>
                </p:blipFill>
                <p:spPr>
                  <a:xfrm>
                    <a:off x="1546200" y="2343240"/>
                    <a:ext cx="6051600" cy="2171520"/>
                  </a:xfrm>
                  <a:prstGeom prst="rect">
                    <a:avLst/>
                  </a:prstGeom>
                  <a:ln w="0">
                    <a:noFill/>
                  </a:ln>
                </p:spPr>
              </p:pic>
            </p:oleObj>
          </a:graphicData>
        </a:graphic>
      </p:graphicFrame>
      <p:sp>
        <p:nvSpPr>
          <p:cNvPr id="3" name="PlaceHolder 2"/>
          <p:cNvSpPr>
            <a:spLocks noGrp="1"/>
          </p:cNvSpPr>
          <p:nvPr>
            <p:ph type="sldNum" idx="3"/>
          </p:nvPr>
        </p:nvSpPr>
        <p:spPr/>
        <p:txBody>
          <a:bodyPr/>
          <a:p>
            <a:fld id="{C1199AD3-5471-4937-B694-C824C1557F4F}"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sere Mitarbeiter</a:t>
            </a:r>
            <a:endParaRPr b="0" lang="en-US" sz="4400" spc="-1" strike="noStrike">
              <a:solidFill>
                <a:srgbClr val="221304"/>
              </a:solidFill>
              <a:latin typeface="Times New Roman"/>
            </a:endParaRPr>
          </a:p>
        </p:txBody>
      </p:sp>
      <p:graphicFrame>
        <p:nvGraphicFramePr>
          <p:cNvPr id="118" name=""/>
          <p:cNvGraphicFramePr/>
          <p:nvPr/>
        </p:nvGraphicFramePr>
        <p:xfrm>
          <a:off x="604800" y="1984320"/>
          <a:ext cx="2419560" cy="2914560"/>
        </p:xfrm>
        <a:graphic>
          <a:graphicData uri="http://schemas.openxmlformats.org/presentationml/2006/ole">
            <p:oleObj progId="Excel.Sheet.12" r:id="rId1" spid="">
              <p:embed/>
              <p:pic>
                <p:nvPicPr>
                  <p:cNvPr id="119" name="" descr=""/>
                  <p:cNvPicPr/>
                  <p:nvPr/>
                </p:nvPicPr>
                <p:blipFill>
                  <a:blip r:embed="rId2"/>
                  <a:stretch/>
                </p:blipFill>
                <p:spPr>
                  <a:xfrm>
                    <a:off x="604800" y="1984320"/>
                    <a:ext cx="2419560" cy="2914560"/>
                  </a:xfrm>
                  <a:prstGeom prst="rect">
                    <a:avLst/>
                  </a:prstGeom>
                  <a:ln w="0">
                    <a:noFill/>
                  </a:ln>
                </p:spPr>
              </p:pic>
            </p:oleObj>
          </a:graphicData>
        </a:graphic>
      </p:graphicFrame>
      <p:sp>
        <p:nvSpPr>
          <p:cNvPr id="120" name=""/>
          <p:cNvSpPr/>
          <p:nvPr/>
        </p:nvSpPr>
        <p:spPr>
          <a:xfrm>
            <a:off x="3352680" y="1905120"/>
            <a:ext cx="1676520" cy="3276360"/>
          </a:xfrm>
          <a:prstGeom prst="right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gram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eil Frau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änner in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8B5E321-5284-42A8-A222-17CB794BEBA1}"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Verkaufsteam</a:t>
            </a:r>
            <a:endParaRPr b="0" lang="en-US" sz="4400" spc="-1" strike="noStrike">
              <a:solidFill>
                <a:srgbClr val="000000"/>
              </a:solidFill>
              <a:latin typeface="Times New Roman"/>
            </a:endParaRPr>
          </a:p>
        </p:txBody>
      </p:sp>
      <p:pic>
        <p:nvPicPr>
          <p:cNvPr id="122" name="BD07128_" descr="">
            <a:hlinkClick r:id="rId1"/>
          </p:cNvPr>
          <p:cNvPicPr/>
          <p:nvPr/>
        </p:nvPicPr>
        <p:blipFill>
          <a:blip r:embed="rId2"/>
          <a:stretch/>
        </p:blipFill>
        <p:spPr>
          <a:xfrm>
            <a:off x="1295280" y="2057400"/>
            <a:ext cx="804960" cy="1832040"/>
          </a:xfrm>
          <a:prstGeom prst="rect">
            <a:avLst/>
          </a:prstGeom>
          <a:ln w="0">
            <a:noFill/>
          </a:ln>
        </p:spPr>
      </p:pic>
      <p:pic>
        <p:nvPicPr>
          <p:cNvPr id="123" name="" descr=""/>
          <p:cNvPicPr/>
          <p:nvPr/>
        </p:nvPicPr>
        <p:blipFill>
          <a:blip r:embed="rId3"/>
          <a:stretch/>
        </p:blipFill>
        <p:spPr>
          <a:xfrm>
            <a:off x="3276720" y="2057400"/>
            <a:ext cx="1760400" cy="1793880"/>
          </a:xfrm>
          <a:prstGeom prst="rect">
            <a:avLst/>
          </a:prstGeom>
          <a:ln w="0">
            <a:noFill/>
          </a:ln>
        </p:spPr>
      </p:pic>
      <p:pic>
        <p:nvPicPr>
          <p:cNvPr id="124" name="BD06947_" descr=""/>
          <p:cNvPicPr/>
          <p:nvPr/>
        </p:nvPicPr>
        <p:blipFill>
          <a:blip r:embed="rId4"/>
          <a:stretch/>
        </p:blipFill>
        <p:spPr>
          <a:xfrm>
            <a:off x="5943600" y="1981080"/>
            <a:ext cx="1847880" cy="1847880"/>
          </a:xfrm>
          <a:prstGeom prst="rect">
            <a:avLst/>
          </a:prstGeom>
          <a:ln w="0">
            <a:noFill/>
          </a:ln>
        </p:spPr>
      </p:pic>
      <p:sp>
        <p:nvSpPr>
          <p:cNvPr id="125" name=""/>
          <p:cNvSpPr/>
          <p:nvPr/>
        </p:nvSpPr>
        <p:spPr>
          <a:xfrm>
            <a:off x="45720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kauf</a:t>
            </a:r>
            <a:endParaRPr b="0" lang="en-US" sz="2400" spc="-1" strike="noStrike">
              <a:solidFill>
                <a:srgbClr val="000000"/>
              </a:solidFill>
              <a:latin typeface="Times New Roman"/>
            </a:endParaRPr>
          </a:p>
        </p:txBody>
      </p:sp>
      <p:sp>
        <p:nvSpPr>
          <p:cNvPr id="126" name=""/>
          <p:cNvSpPr/>
          <p:nvPr/>
        </p:nvSpPr>
        <p:spPr>
          <a:xfrm>
            <a:off x="312408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p:txBody>
      </p:sp>
      <p:sp>
        <p:nvSpPr>
          <p:cNvPr id="127" name=""/>
          <p:cNvSpPr/>
          <p:nvPr/>
        </p:nvSpPr>
        <p:spPr>
          <a:xfrm>
            <a:off x="586728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p:txBody>
      </p:sp>
      <p:sp>
        <p:nvSpPr>
          <p:cNvPr id="128" name=""/>
          <p:cNvSpPr/>
          <p:nvPr/>
        </p:nvSpPr>
        <p:spPr>
          <a:xfrm>
            <a:off x="129528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388620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62940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115A3D-31D8-42BA-B347-CA50013AB5F8}"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Verkauf</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RT - Bildschir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FT - Bildschir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plett-Syst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uck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ann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79F6EB-A3FC-48C7-8F2A-64173740F7FE}" type="slidenum">
              <a:t>6</a:t>
            </a:fld>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Suppor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rd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ft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n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D1C2A-400F-48FB-8D9B-4BC11106D701}" type="slidenum">
              <a:t>7</a:t>
            </a:fld>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Administration</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DV-Anlag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üro-Räumlichkeit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hulungsräu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96C7B4-885C-4370-B57E-F892D286F92F}" type="slidenum">
              <a:t>8</a:t>
            </a:fld>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Aktionen</a:t>
            </a:r>
            <a:endParaRPr b="0" lang="en-US" sz="4400" spc="-1" strike="noStrike">
              <a:solidFill>
                <a:srgbClr val="221304"/>
              </a:solidFill>
              <a:latin typeface="Times New Roman"/>
            </a:endParaRPr>
          </a:p>
        </p:txBody>
      </p:sp>
      <p:sp>
        <p:nvSpPr>
          <p:cNvPr id="13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hnäppch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ueraktio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5462B-74E0-4B3D-B21D-017C51E17E2C}" type="slidenum">
              <a:t>9</a:t>
            </a:fld>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18:51:06Z</dcterms:created>
  <dc:creator/>
  <dc:description/>
  <dc:language>en-US</dc:language>
  <cp:lastModifiedBy>Privat</cp:lastModifiedBy>
  <dcterms:modified xsi:type="dcterms:W3CDTF">2002-04-20T12:26:26Z</dcterms:modified>
  <cp:revision>13</cp:revision>
  <dc:subject/>
  <dc:title>Herzlich willkommen</dc:title>
</cp:coreProperties>
</file>