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B5A-4F81-4914-AF51-C2A08981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741-4689-4357-A55A-1FE3ED24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7EB-1CDC-473F-B4F9-E43B0813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37C-32E9-4074-9490-5703CD7D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DCF-DFCE-4540-8F8C-1D7A161D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2B2-1A2E-495C-914A-C131B64B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5C0-E6F1-4A16-AF0C-E83DE51A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A17-089E-4158-A454-70EF1418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D4C-EA37-4A3E-AFDF-6BE1D7AE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EE8-2DB7-4D5A-9127-43ECB52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E63-46AC-437C-9D5E-36BC319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90A-45D8-4CD2-826A-716C2F4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6C04-4F9C-41A2-B86F-C6B3C51954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30:26Z</dcterms:created>
  <dc:creator>Wagner</dc:creator>
  <dc:description/>
  <dc:language>en-US</dc:language>
  <cp:lastModifiedBy>Wagner</cp:lastModifiedBy>
  <dcterms:modified xsi:type="dcterms:W3CDTF">2008-12-26T21:30:47Z</dcterms:modified>
  <cp:revision>1</cp:revision>
  <dc:subject/>
  <dc:title>Folie 1</dc:title>
</cp:coreProperties>
</file>