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7CAE-3EAE-4036-8E75-290729CC2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F331-143A-481D-A449-59687D7D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3FFD-8554-47B0-9C52-12833C6A3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6AED-3BA3-4519-A4F7-37356F842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D14B-1774-472D-A1AA-28B7F7AD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3FB9-F8A8-4614-B5AC-E5069D75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5624-0A23-4019-95C5-F576352C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FABA-EE14-4D48-BA59-D113A428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7883-15E4-40CB-BC3D-ADFB4969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BEDE-D4F8-4D2F-AE97-6F3BEC75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F1E7-445A-479D-9227-40A7ED0F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9B39-C9BC-4932-83D8-8A2F57D7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7DAE-09C0-4527-A942-38701EBFC02D}" type="slidenum">
              <a:rPr b="0" lang="de-A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21:41:48Z</dcterms:created>
  <dc:creator>Oliver Mochmann</dc:creator>
  <dc:description/>
  <dc:language>en-US</dc:language>
  <cp:lastModifiedBy>Oliver Mochmann</cp:lastModifiedBy>
  <dcterms:modified xsi:type="dcterms:W3CDTF">2007-03-02T21:46:49Z</dcterms:modified>
  <cp:revision>1</cp:revision>
  <dc:subject/>
  <dc:title>Folie 1</dc:title>
</cp:coreProperties>
</file>