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60199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814320" y="303120"/>
            <a:ext cx="1225800" cy="1280160"/>
            <a:chOff x="814320" y="303120"/>
            <a:chExt cx="1225800" cy="1280160"/>
          </a:xfrm>
        </p:grpSpPr>
        <p:sp>
          <p:nvSpPr>
            <p:cNvPr id="3" name=""/>
            <p:cNvSpPr/>
            <p:nvPr/>
          </p:nvSpPr>
          <p:spPr>
            <a:xfrm>
              <a:off x="1224000" y="303120"/>
              <a:ext cx="787680" cy="992520"/>
            </a:xfrm>
            <a:custGeom>
              <a:avLst/>
              <a:gdLst/>
              <a:ahLst/>
              <a:rect l="0" t="0" r="r" b="b"/>
              <a:pathLst>
                <a:path w="2188" h="2757">
                  <a:moveTo>
                    <a:pt x="833" y="361"/>
                  </a:moveTo>
                  <a:lnTo>
                    <a:pt x="864" y="366"/>
                  </a:lnTo>
                  <a:lnTo>
                    <a:pt x="903" y="374"/>
                  </a:lnTo>
                  <a:lnTo>
                    <a:pt x="943" y="383"/>
                  </a:lnTo>
                  <a:lnTo>
                    <a:pt x="970" y="392"/>
                  </a:lnTo>
                  <a:lnTo>
                    <a:pt x="1005" y="401"/>
                  </a:lnTo>
                  <a:lnTo>
                    <a:pt x="1036" y="410"/>
                  </a:lnTo>
                  <a:lnTo>
                    <a:pt x="1067" y="418"/>
                  </a:lnTo>
                  <a:lnTo>
                    <a:pt x="1099" y="427"/>
                  </a:lnTo>
                  <a:lnTo>
                    <a:pt x="1134" y="440"/>
                  </a:lnTo>
                  <a:lnTo>
                    <a:pt x="1173" y="458"/>
                  </a:lnTo>
                  <a:lnTo>
                    <a:pt x="1209" y="471"/>
                  </a:lnTo>
                  <a:lnTo>
                    <a:pt x="1244" y="485"/>
                  </a:lnTo>
                  <a:lnTo>
                    <a:pt x="1279" y="502"/>
                  </a:lnTo>
                  <a:lnTo>
                    <a:pt x="1319" y="520"/>
                  </a:lnTo>
                  <a:lnTo>
                    <a:pt x="1350" y="537"/>
                  </a:lnTo>
                  <a:lnTo>
                    <a:pt x="1381" y="555"/>
                  </a:lnTo>
                  <a:lnTo>
                    <a:pt x="1412" y="573"/>
                  </a:lnTo>
                  <a:lnTo>
                    <a:pt x="1438" y="595"/>
                  </a:lnTo>
                  <a:lnTo>
                    <a:pt x="1469" y="612"/>
                  </a:lnTo>
                  <a:lnTo>
                    <a:pt x="1504" y="639"/>
                  </a:lnTo>
                  <a:lnTo>
                    <a:pt x="1539" y="661"/>
                  </a:lnTo>
                  <a:lnTo>
                    <a:pt x="1566" y="683"/>
                  </a:lnTo>
                  <a:lnTo>
                    <a:pt x="1597" y="705"/>
                  </a:lnTo>
                  <a:lnTo>
                    <a:pt x="1641" y="740"/>
                  </a:lnTo>
                  <a:lnTo>
                    <a:pt x="1689" y="784"/>
                  </a:lnTo>
                  <a:lnTo>
                    <a:pt x="1725" y="820"/>
                  </a:lnTo>
                  <a:lnTo>
                    <a:pt x="1769" y="868"/>
                  </a:lnTo>
                  <a:lnTo>
                    <a:pt x="1795" y="903"/>
                  </a:lnTo>
                  <a:lnTo>
                    <a:pt x="1831" y="943"/>
                  </a:lnTo>
                  <a:lnTo>
                    <a:pt x="1866" y="987"/>
                  </a:lnTo>
                  <a:lnTo>
                    <a:pt x="1897" y="1031"/>
                  </a:lnTo>
                  <a:lnTo>
                    <a:pt x="1928" y="1080"/>
                  </a:lnTo>
                  <a:lnTo>
                    <a:pt x="1958" y="1124"/>
                  </a:lnTo>
                  <a:lnTo>
                    <a:pt x="1985" y="1177"/>
                  </a:lnTo>
                  <a:lnTo>
                    <a:pt x="2011" y="1217"/>
                  </a:lnTo>
                  <a:lnTo>
                    <a:pt x="2038" y="1274"/>
                  </a:lnTo>
                  <a:lnTo>
                    <a:pt x="2060" y="1322"/>
                  </a:lnTo>
                  <a:lnTo>
                    <a:pt x="2082" y="1375"/>
                  </a:lnTo>
                  <a:lnTo>
                    <a:pt x="2100" y="1438"/>
                  </a:lnTo>
                  <a:lnTo>
                    <a:pt x="2126" y="1509"/>
                  </a:lnTo>
                  <a:lnTo>
                    <a:pt x="2144" y="1575"/>
                  </a:lnTo>
                  <a:lnTo>
                    <a:pt x="2157" y="1641"/>
                  </a:lnTo>
                  <a:lnTo>
                    <a:pt x="2166" y="1707"/>
                  </a:lnTo>
                  <a:lnTo>
                    <a:pt x="2179" y="1786"/>
                  </a:lnTo>
                  <a:lnTo>
                    <a:pt x="2188" y="1888"/>
                  </a:lnTo>
                  <a:lnTo>
                    <a:pt x="2188" y="1963"/>
                  </a:lnTo>
                  <a:lnTo>
                    <a:pt x="2188" y="2038"/>
                  </a:lnTo>
                  <a:lnTo>
                    <a:pt x="2179" y="2104"/>
                  </a:lnTo>
                  <a:lnTo>
                    <a:pt x="2170" y="2174"/>
                  </a:lnTo>
                  <a:lnTo>
                    <a:pt x="2166" y="2241"/>
                  </a:lnTo>
                  <a:lnTo>
                    <a:pt x="2148" y="2316"/>
                  </a:lnTo>
                  <a:lnTo>
                    <a:pt x="2130" y="2391"/>
                  </a:lnTo>
                  <a:lnTo>
                    <a:pt x="2104" y="2470"/>
                  </a:lnTo>
                  <a:lnTo>
                    <a:pt x="2077" y="2545"/>
                  </a:lnTo>
                  <a:lnTo>
                    <a:pt x="2051" y="2615"/>
                  </a:lnTo>
                  <a:lnTo>
                    <a:pt x="2007" y="2686"/>
                  </a:lnTo>
                  <a:lnTo>
                    <a:pt x="1967" y="2757"/>
                  </a:lnTo>
                  <a:lnTo>
                    <a:pt x="1323" y="2382"/>
                  </a:lnTo>
                  <a:lnTo>
                    <a:pt x="1359" y="2311"/>
                  </a:lnTo>
                  <a:lnTo>
                    <a:pt x="1381" y="2258"/>
                  </a:lnTo>
                  <a:lnTo>
                    <a:pt x="1398" y="2201"/>
                  </a:lnTo>
                  <a:lnTo>
                    <a:pt x="1412" y="2144"/>
                  </a:lnTo>
                  <a:lnTo>
                    <a:pt x="1425" y="2091"/>
                  </a:lnTo>
                  <a:lnTo>
                    <a:pt x="1425" y="2042"/>
                  </a:lnTo>
                  <a:lnTo>
                    <a:pt x="1429" y="1989"/>
                  </a:lnTo>
                  <a:lnTo>
                    <a:pt x="1429" y="1936"/>
                  </a:lnTo>
                  <a:lnTo>
                    <a:pt x="1429" y="1875"/>
                  </a:lnTo>
                  <a:lnTo>
                    <a:pt x="1420" y="1817"/>
                  </a:lnTo>
                  <a:lnTo>
                    <a:pt x="1407" y="1751"/>
                  </a:lnTo>
                  <a:lnTo>
                    <a:pt x="1394" y="1694"/>
                  </a:lnTo>
                  <a:lnTo>
                    <a:pt x="1368" y="1637"/>
                  </a:lnTo>
                  <a:lnTo>
                    <a:pt x="1350" y="1584"/>
                  </a:lnTo>
                  <a:lnTo>
                    <a:pt x="1319" y="1535"/>
                  </a:lnTo>
                  <a:lnTo>
                    <a:pt x="1297" y="1495"/>
                  </a:lnTo>
                  <a:lnTo>
                    <a:pt x="1275" y="1465"/>
                  </a:lnTo>
                  <a:lnTo>
                    <a:pt x="1253" y="1434"/>
                  </a:lnTo>
                  <a:lnTo>
                    <a:pt x="1226" y="1403"/>
                  </a:lnTo>
                  <a:lnTo>
                    <a:pt x="1196" y="1367"/>
                  </a:lnTo>
                  <a:lnTo>
                    <a:pt x="1169" y="1344"/>
                  </a:lnTo>
                  <a:lnTo>
                    <a:pt x="1143" y="1314"/>
                  </a:lnTo>
                  <a:lnTo>
                    <a:pt x="1112" y="1292"/>
                  </a:lnTo>
                  <a:lnTo>
                    <a:pt x="1080" y="1265"/>
                  </a:lnTo>
                  <a:lnTo>
                    <a:pt x="1040" y="1239"/>
                  </a:lnTo>
                  <a:lnTo>
                    <a:pt x="1005" y="1217"/>
                  </a:lnTo>
                  <a:lnTo>
                    <a:pt x="978" y="1203"/>
                  </a:lnTo>
                  <a:lnTo>
                    <a:pt x="934" y="1177"/>
                  </a:lnTo>
                  <a:lnTo>
                    <a:pt x="899" y="1164"/>
                  </a:lnTo>
                  <a:lnTo>
                    <a:pt x="868" y="1150"/>
                  </a:lnTo>
                  <a:lnTo>
                    <a:pt x="833" y="1142"/>
                  </a:lnTo>
                  <a:lnTo>
                    <a:pt x="784" y="1128"/>
                  </a:lnTo>
                  <a:lnTo>
                    <a:pt x="736" y="1120"/>
                  </a:lnTo>
                  <a:lnTo>
                    <a:pt x="687" y="1115"/>
                  </a:lnTo>
                  <a:lnTo>
                    <a:pt x="639" y="1111"/>
                  </a:lnTo>
                  <a:lnTo>
                    <a:pt x="612" y="1111"/>
                  </a:lnTo>
                  <a:lnTo>
                    <a:pt x="612" y="1513"/>
                  </a:lnTo>
                  <a:lnTo>
                    <a:pt x="0" y="767"/>
                  </a:lnTo>
                  <a:lnTo>
                    <a:pt x="612" y="0"/>
                  </a:lnTo>
                  <a:lnTo>
                    <a:pt x="612" y="343"/>
                  </a:lnTo>
                  <a:lnTo>
                    <a:pt x="648" y="348"/>
                  </a:lnTo>
                  <a:lnTo>
                    <a:pt x="692" y="348"/>
                  </a:lnTo>
                  <a:lnTo>
                    <a:pt x="745" y="352"/>
                  </a:lnTo>
                  <a:lnTo>
                    <a:pt x="793" y="357"/>
                  </a:lnTo>
                  <a:lnTo>
                    <a:pt x="833" y="3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93600" y="1033560"/>
              <a:ext cx="1046520" cy="549720"/>
            </a:xfrm>
            <a:custGeom>
              <a:avLst/>
              <a:gdLst/>
              <a:ahLst/>
              <a:rect l="0" t="0" r="r" b="b"/>
              <a:pathLst>
                <a:path w="2907" h="1527">
                  <a:moveTo>
                    <a:pt x="1465" y="1510"/>
                  </a:moveTo>
                  <a:lnTo>
                    <a:pt x="1491" y="1505"/>
                  </a:lnTo>
                  <a:lnTo>
                    <a:pt x="1531" y="1501"/>
                  </a:lnTo>
                  <a:lnTo>
                    <a:pt x="1570" y="1492"/>
                  </a:lnTo>
                  <a:lnTo>
                    <a:pt x="1601" y="1483"/>
                  </a:lnTo>
                  <a:lnTo>
                    <a:pt x="1632" y="1474"/>
                  </a:lnTo>
                  <a:lnTo>
                    <a:pt x="1667" y="1466"/>
                  </a:lnTo>
                  <a:lnTo>
                    <a:pt x="1703" y="1457"/>
                  </a:lnTo>
                  <a:lnTo>
                    <a:pt x="1729" y="1448"/>
                  </a:lnTo>
                  <a:lnTo>
                    <a:pt x="1764" y="1435"/>
                  </a:lnTo>
                  <a:lnTo>
                    <a:pt x="1804" y="1421"/>
                  </a:lnTo>
                  <a:lnTo>
                    <a:pt x="1839" y="1404"/>
                  </a:lnTo>
                  <a:lnTo>
                    <a:pt x="1875" y="1391"/>
                  </a:lnTo>
                  <a:lnTo>
                    <a:pt x="1914" y="1373"/>
                  </a:lnTo>
                  <a:lnTo>
                    <a:pt x="1950" y="1355"/>
                  </a:lnTo>
                  <a:lnTo>
                    <a:pt x="1980" y="1338"/>
                  </a:lnTo>
                  <a:lnTo>
                    <a:pt x="2011" y="1320"/>
                  </a:lnTo>
                  <a:lnTo>
                    <a:pt x="2042" y="1302"/>
                  </a:lnTo>
                  <a:lnTo>
                    <a:pt x="2069" y="1280"/>
                  </a:lnTo>
                  <a:lnTo>
                    <a:pt x="2100" y="1263"/>
                  </a:lnTo>
                  <a:lnTo>
                    <a:pt x="2135" y="1241"/>
                  </a:lnTo>
                  <a:lnTo>
                    <a:pt x="2166" y="1214"/>
                  </a:lnTo>
                  <a:lnTo>
                    <a:pt x="2197" y="1192"/>
                  </a:lnTo>
                  <a:lnTo>
                    <a:pt x="2223" y="1174"/>
                  </a:lnTo>
                  <a:lnTo>
                    <a:pt x="2272" y="1134"/>
                  </a:lnTo>
                  <a:lnTo>
                    <a:pt x="2311" y="1099"/>
                  </a:lnTo>
                  <a:lnTo>
                    <a:pt x="2355" y="1059"/>
                  </a:lnTo>
                  <a:lnTo>
                    <a:pt x="2395" y="1010"/>
                  </a:lnTo>
                  <a:lnTo>
                    <a:pt x="2426" y="975"/>
                  </a:lnTo>
                  <a:lnTo>
                    <a:pt x="2461" y="935"/>
                  </a:lnTo>
                  <a:lnTo>
                    <a:pt x="2496" y="891"/>
                  </a:lnTo>
                  <a:lnTo>
                    <a:pt x="2527" y="847"/>
                  </a:lnTo>
                  <a:lnTo>
                    <a:pt x="2558" y="799"/>
                  </a:lnTo>
                  <a:lnTo>
                    <a:pt x="2593" y="746"/>
                  </a:lnTo>
                  <a:lnTo>
                    <a:pt x="2907" y="931"/>
                  </a:lnTo>
                  <a:lnTo>
                    <a:pt x="2602" y="0"/>
                  </a:lnTo>
                  <a:lnTo>
                    <a:pt x="1606" y="176"/>
                  </a:lnTo>
                  <a:lnTo>
                    <a:pt x="1941" y="366"/>
                  </a:lnTo>
                  <a:lnTo>
                    <a:pt x="1914" y="406"/>
                  </a:lnTo>
                  <a:lnTo>
                    <a:pt x="1883" y="441"/>
                  </a:lnTo>
                  <a:lnTo>
                    <a:pt x="1853" y="477"/>
                  </a:lnTo>
                  <a:lnTo>
                    <a:pt x="1826" y="508"/>
                  </a:lnTo>
                  <a:lnTo>
                    <a:pt x="1800" y="534"/>
                  </a:lnTo>
                  <a:lnTo>
                    <a:pt x="1773" y="561"/>
                  </a:lnTo>
                  <a:lnTo>
                    <a:pt x="1742" y="587"/>
                  </a:lnTo>
                  <a:lnTo>
                    <a:pt x="1707" y="609"/>
                  </a:lnTo>
                  <a:lnTo>
                    <a:pt x="1667" y="636"/>
                  </a:lnTo>
                  <a:lnTo>
                    <a:pt x="1637" y="658"/>
                  </a:lnTo>
                  <a:lnTo>
                    <a:pt x="1606" y="675"/>
                  </a:lnTo>
                  <a:lnTo>
                    <a:pt x="1566" y="697"/>
                  </a:lnTo>
                  <a:lnTo>
                    <a:pt x="1531" y="715"/>
                  </a:lnTo>
                  <a:lnTo>
                    <a:pt x="1495" y="724"/>
                  </a:lnTo>
                  <a:lnTo>
                    <a:pt x="1465" y="737"/>
                  </a:lnTo>
                  <a:lnTo>
                    <a:pt x="1415" y="750"/>
                  </a:lnTo>
                  <a:lnTo>
                    <a:pt x="1367" y="755"/>
                  </a:lnTo>
                  <a:lnTo>
                    <a:pt x="1318" y="759"/>
                  </a:lnTo>
                  <a:lnTo>
                    <a:pt x="1247" y="763"/>
                  </a:lnTo>
                  <a:lnTo>
                    <a:pt x="1155" y="763"/>
                  </a:lnTo>
                  <a:lnTo>
                    <a:pt x="1080" y="755"/>
                  </a:lnTo>
                  <a:lnTo>
                    <a:pt x="1018" y="741"/>
                  </a:lnTo>
                  <a:lnTo>
                    <a:pt x="943" y="719"/>
                  </a:lnTo>
                  <a:lnTo>
                    <a:pt x="877" y="688"/>
                  </a:lnTo>
                  <a:lnTo>
                    <a:pt x="806" y="658"/>
                  </a:lnTo>
                  <a:lnTo>
                    <a:pt x="749" y="618"/>
                  </a:lnTo>
                  <a:lnTo>
                    <a:pt x="692" y="565"/>
                  </a:lnTo>
                  <a:lnTo>
                    <a:pt x="0" y="966"/>
                  </a:lnTo>
                  <a:lnTo>
                    <a:pt x="30" y="997"/>
                  </a:lnTo>
                  <a:lnTo>
                    <a:pt x="70" y="1037"/>
                  </a:lnTo>
                  <a:lnTo>
                    <a:pt x="101" y="1072"/>
                  </a:lnTo>
                  <a:lnTo>
                    <a:pt x="136" y="1103"/>
                  </a:lnTo>
                  <a:lnTo>
                    <a:pt x="167" y="1134"/>
                  </a:lnTo>
                  <a:lnTo>
                    <a:pt x="211" y="1170"/>
                  </a:lnTo>
                  <a:lnTo>
                    <a:pt x="246" y="1197"/>
                  </a:lnTo>
                  <a:lnTo>
                    <a:pt x="282" y="1223"/>
                  </a:lnTo>
                  <a:lnTo>
                    <a:pt x="326" y="1249"/>
                  </a:lnTo>
                  <a:lnTo>
                    <a:pt x="366" y="1276"/>
                  </a:lnTo>
                  <a:lnTo>
                    <a:pt x="405" y="1302"/>
                  </a:lnTo>
                  <a:lnTo>
                    <a:pt x="445" y="1324"/>
                  </a:lnTo>
                  <a:lnTo>
                    <a:pt x="480" y="1346"/>
                  </a:lnTo>
                  <a:lnTo>
                    <a:pt x="520" y="1364"/>
                  </a:lnTo>
                  <a:lnTo>
                    <a:pt x="568" y="1391"/>
                  </a:lnTo>
                  <a:lnTo>
                    <a:pt x="617" y="1408"/>
                  </a:lnTo>
                  <a:lnTo>
                    <a:pt x="670" y="1430"/>
                  </a:lnTo>
                  <a:lnTo>
                    <a:pt x="709" y="1443"/>
                  </a:lnTo>
                  <a:lnTo>
                    <a:pt x="749" y="1461"/>
                  </a:lnTo>
                  <a:lnTo>
                    <a:pt x="793" y="1474"/>
                  </a:lnTo>
                  <a:lnTo>
                    <a:pt x="837" y="1483"/>
                  </a:lnTo>
                  <a:lnTo>
                    <a:pt x="877" y="1496"/>
                  </a:lnTo>
                  <a:lnTo>
                    <a:pt x="930" y="1505"/>
                  </a:lnTo>
                  <a:lnTo>
                    <a:pt x="978" y="1514"/>
                  </a:lnTo>
                  <a:lnTo>
                    <a:pt x="1031" y="1518"/>
                  </a:lnTo>
                  <a:lnTo>
                    <a:pt x="1084" y="1523"/>
                  </a:lnTo>
                  <a:lnTo>
                    <a:pt x="1124" y="1527"/>
                  </a:lnTo>
                  <a:lnTo>
                    <a:pt x="1177" y="1527"/>
                  </a:lnTo>
                  <a:lnTo>
                    <a:pt x="1234" y="1527"/>
                  </a:lnTo>
                  <a:lnTo>
                    <a:pt x="1278" y="1527"/>
                  </a:lnTo>
                  <a:lnTo>
                    <a:pt x="1322" y="1527"/>
                  </a:lnTo>
                  <a:lnTo>
                    <a:pt x="1375" y="1523"/>
                  </a:lnTo>
                  <a:lnTo>
                    <a:pt x="1419" y="1514"/>
                  </a:lnTo>
                  <a:lnTo>
                    <a:pt x="1465" y="1510"/>
                  </a:lnTo>
                  <a:close/>
                </a:path>
              </a:pathLst>
            </a:custGeom>
            <a:solidFill>
              <a:srgbClr val="00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4320" y="436680"/>
              <a:ext cx="530640" cy="983160"/>
            </a:xfrm>
            <a:custGeom>
              <a:avLst/>
              <a:gdLst/>
              <a:ahLst/>
              <a:rect l="0" t="0" r="r" b="b"/>
              <a:pathLst>
                <a:path w="1474" h="2731">
                  <a:moveTo>
                    <a:pt x="1474" y="0"/>
                  </a:moveTo>
                  <a:lnTo>
                    <a:pt x="1443" y="4"/>
                  </a:lnTo>
                  <a:lnTo>
                    <a:pt x="1413" y="8"/>
                  </a:lnTo>
                  <a:lnTo>
                    <a:pt x="1369" y="22"/>
                  </a:lnTo>
                  <a:lnTo>
                    <a:pt x="1338" y="26"/>
                  </a:lnTo>
                  <a:lnTo>
                    <a:pt x="1302" y="35"/>
                  </a:lnTo>
                  <a:lnTo>
                    <a:pt x="1272" y="48"/>
                  </a:lnTo>
                  <a:lnTo>
                    <a:pt x="1236" y="57"/>
                  </a:lnTo>
                  <a:lnTo>
                    <a:pt x="1205" y="66"/>
                  </a:lnTo>
                  <a:lnTo>
                    <a:pt x="1174" y="79"/>
                  </a:lnTo>
                  <a:lnTo>
                    <a:pt x="1130" y="92"/>
                  </a:lnTo>
                  <a:lnTo>
                    <a:pt x="1099" y="110"/>
                  </a:lnTo>
                  <a:lnTo>
                    <a:pt x="1063" y="123"/>
                  </a:lnTo>
                  <a:lnTo>
                    <a:pt x="1028" y="141"/>
                  </a:lnTo>
                  <a:lnTo>
                    <a:pt x="988" y="158"/>
                  </a:lnTo>
                  <a:lnTo>
                    <a:pt x="957" y="176"/>
                  </a:lnTo>
                  <a:lnTo>
                    <a:pt x="927" y="194"/>
                  </a:lnTo>
                  <a:lnTo>
                    <a:pt x="896" y="211"/>
                  </a:lnTo>
                  <a:lnTo>
                    <a:pt x="869" y="233"/>
                  </a:lnTo>
                  <a:lnTo>
                    <a:pt x="838" y="251"/>
                  </a:lnTo>
                  <a:lnTo>
                    <a:pt x="803" y="273"/>
                  </a:lnTo>
                  <a:lnTo>
                    <a:pt x="768" y="299"/>
                  </a:lnTo>
                  <a:lnTo>
                    <a:pt x="741" y="321"/>
                  </a:lnTo>
                  <a:lnTo>
                    <a:pt x="710" y="343"/>
                  </a:lnTo>
                  <a:lnTo>
                    <a:pt x="666" y="379"/>
                  </a:lnTo>
                  <a:lnTo>
                    <a:pt x="618" y="423"/>
                  </a:lnTo>
                  <a:lnTo>
                    <a:pt x="583" y="458"/>
                  </a:lnTo>
                  <a:lnTo>
                    <a:pt x="538" y="507"/>
                  </a:lnTo>
                  <a:lnTo>
                    <a:pt x="508" y="542"/>
                  </a:lnTo>
                  <a:lnTo>
                    <a:pt x="477" y="582"/>
                  </a:lnTo>
                  <a:lnTo>
                    <a:pt x="437" y="626"/>
                  </a:lnTo>
                  <a:lnTo>
                    <a:pt x="411" y="670"/>
                  </a:lnTo>
                  <a:lnTo>
                    <a:pt x="380" y="719"/>
                  </a:lnTo>
                  <a:lnTo>
                    <a:pt x="348" y="763"/>
                  </a:lnTo>
                  <a:lnTo>
                    <a:pt x="317" y="812"/>
                  </a:lnTo>
                  <a:lnTo>
                    <a:pt x="291" y="856"/>
                  </a:lnTo>
                  <a:lnTo>
                    <a:pt x="268" y="909"/>
                  </a:lnTo>
                  <a:lnTo>
                    <a:pt x="246" y="962"/>
                  </a:lnTo>
                  <a:lnTo>
                    <a:pt x="224" y="1015"/>
                  </a:lnTo>
                  <a:lnTo>
                    <a:pt x="207" y="1072"/>
                  </a:lnTo>
                  <a:lnTo>
                    <a:pt x="180" y="1147"/>
                  </a:lnTo>
                  <a:lnTo>
                    <a:pt x="163" y="1213"/>
                  </a:lnTo>
                  <a:lnTo>
                    <a:pt x="149" y="1279"/>
                  </a:lnTo>
                  <a:lnTo>
                    <a:pt x="141" y="1345"/>
                  </a:lnTo>
                  <a:lnTo>
                    <a:pt x="127" y="1425"/>
                  </a:lnTo>
                  <a:lnTo>
                    <a:pt x="119" y="1522"/>
                  </a:lnTo>
                  <a:lnTo>
                    <a:pt x="119" y="1597"/>
                  </a:lnTo>
                  <a:lnTo>
                    <a:pt x="119" y="1672"/>
                  </a:lnTo>
                  <a:lnTo>
                    <a:pt x="127" y="1747"/>
                  </a:lnTo>
                  <a:lnTo>
                    <a:pt x="136" y="1813"/>
                  </a:lnTo>
                  <a:lnTo>
                    <a:pt x="141" y="1883"/>
                  </a:lnTo>
                  <a:lnTo>
                    <a:pt x="158" y="1954"/>
                  </a:lnTo>
                  <a:lnTo>
                    <a:pt x="176" y="2029"/>
                  </a:lnTo>
                  <a:lnTo>
                    <a:pt x="202" y="2109"/>
                  </a:lnTo>
                  <a:lnTo>
                    <a:pt x="229" y="2184"/>
                  </a:lnTo>
                  <a:lnTo>
                    <a:pt x="255" y="2255"/>
                  </a:lnTo>
                  <a:lnTo>
                    <a:pt x="291" y="2325"/>
                  </a:lnTo>
                  <a:lnTo>
                    <a:pt x="330" y="2392"/>
                  </a:lnTo>
                  <a:lnTo>
                    <a:pt x="0" y="2581"/>
                  </a:lnTo>
                  <a:lnTo>
                    <a:pt x="1010" y="2731"/>
                  </a:lnTo>
                  <a:lnTo>
                    <a:pt x="1382" y="1800"/>
                  </a:lnTo>
                  <a:lnTo>
                    <a:pt x="993" y="2007"/>
                  </a:lnTo>
                  <a:lnTo>
                    <a:pt x="953" y="1945"/>
                  </a:lnTo>
                  <a:lnTo>
                    <a:pt x="931" y="1892"/>
                  </a:lnTo>
                  <a:lnTo>
                    <a:pt x="909" y="1839"/>
                  </a:lnTo>
                  <a:lnTo>
                    <a:pt x="896" y="1782"/>
                  </a:lnTo>
                  <a:lnTo>
                    <a:pt x="887" y="1729"/>
                  </a:lnTo>
                  <a:lnTo>
                    <a:pt x="882" y="1681"/>
                  </a:lnTo>
                  <a:lnTo>
                    <a:pt x="878" y="1628"/>
                  </a:lnTo>
                  <a:lnTo>
                    <a:pt x="878" y="1575"/>
                  </a:lnTo>
                  <a:lnTo>
                    <a:pt x="878" y="1513"/>
                  </a:lnTo>
                  <a:lnTo>
                    <a:pt x="887" y="1456"/>
                  </a:lnTo>
                  <a:lnTo>
                    <a:pt x="900" y="1385"/>
                  </a:lnTo>
                  <a:lnTo>
                    <a:pt x="913" y="1332"/>
                  </a:lnTo>
                  <a:lnTo>
                    <a:pt x="940" y="1275"/>
                  </a:lnTo>
                  <a:lnTo>
                    <a:pt x="957" y="1222"/>
                  </a:lnTo>
                  <a:lnTo>
                    <a:pt x="988" y="1173"/>
                  </a:lnTo>
                  <a:lnTo>
                    <a:pt x="1010" y="1134"/>
                  </a:lnTo>
                  <a:lnTo>
                    <a:pt x="1032" y="1103"/>
                  </a:lnTo>
                  <a:lnTo>
                    <a:pt x="1054" y="1072"/>
                  </a:lnTo>
                  <a:lnTo>
                    <a:pt x="1081" y="1037"/>
                  </a:lnTo>
                  <a:lnTo>
                    <a:pt x="1113" y="1006"/>
                  </a:lnTo>
                  <a:lnTo>
                    <a:pt x="1139" y="984"/>
                  </a:lnTo>
                  <a:lnTo>
                    <a:pt x="1166" y="953"/>
                  </a:lnTo>
                  <a:lnTo>
                    <a:pt x="1192" y="931"/>
                  </a:lnTo>
                  <a:lnTo>
                    <a:pt x="1227" y="904"/>
                  </a:lnTo>
                  <a:lnTo>
                    <a:pt x="1267" y="878"/>
                  </a:lnTo>
                  <a:lnTo>
                    <a:pt x="1302" y="856"/>
                  </a:lnTo>
                  <a:lnTo>
                    <a:pt x="1329" y="838"/>
                  </a:lnTo>
                  <a:lnTo>
                    <a:pt x="1369" y="816"/>
                  </a:lnTo>
                  <a:lnTo>
                    <a:pt x="1413" y="799"/>
                  </a:lnTo>
                  <a:lnTo>
                    <a:pt x="1474" y="781"/>
                  </a:lnTo>
                  <a:lnTo>
                    <a:pt x="147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224000" y="303120"/>
              <a:ext cx="787680" cy="889200"/>
            </a:xfrm>
            <a:custGeom>
              <a:avLst/>
              <a:gdLst/>
              <a:ahLst/>
              <a:rect l="0" t="0" r="r" b="b"/>
              <a:pathLst>
                <a:path w="2188" h="2470">
                  <a:moveTo>
                    <a:pt x="833" y="361"/>
                  </a:moveTo>
                  <a:lnTo>
                    <a:pt x="864" y="366"/>
                  </a:lnTo>
                  <a:lnTo>
                    <a:pt x="903" y="374"/>
                  </a:lnTo>
                  <a:lnTo>
                    <a:pt x="943" y="383"/>
                  </a:lnTo>
                  <a:lnTo>
                    <a:pt x="970" y="392"/>
                  </a:lnTo>
                  <a:lnTo>
                    <a:pt x="1005" y="401"/>
                  </a:lnTo>
                  <a:lnTo>
                    <a:pt x="1036" y="410"/>
                  </a:lnTo>
                  <a:lnTo>
                    <a:pt x="1067" y="418"/>
                  </a:lnTo>
                  <a:lnTo>
                    <a:pt x="1099" y="427"/>
                  </a:lnTo>
                  <a:lnTo>
                    <a:pt x="1134" y="440"/>
                  </a:lnTo>
                  <a:lnTo>
                    <a:pt x="1173" y="458"/>
                  </a:lnTo>
                  <a:lnTo>
                    <a:pt x="1209" y="471"/>
                  </a:lnTo>
                  <a:lnTo>
                    <a:pt x="1244" y="485"/>
                  </a:lnTo>
                  <a:lnTo>
                    <a:pt x="1279" y="502"/>
                  </a:lnTo>
                  <a:lnTo>
                    <a:pt x="1319" y="520"/>
                  </a:lnTo>
                  <a:lnTo>
                    <a:pt x="1350" y="537"/>
                  </a:lnTo>
                  <a:lnTo>
                    <a:pt x="1381" y="555"/>
                  </a:lnTo>
                  <a:lnTo>
                    <a:pt x="1412" y="573"/>
                  </a:lnTo>
                  <a:lnTo>
                    <a:pt x="1438" y="595"/>
                  </a:lnTo>
                  <a:lnTo>
                    <a:pt x="1469" y="612"/>
                  </a:lnTo>
                  <a:lnTo>
                    <a:pt x="1504" y="635"/>
                  </a:lnTo>
                  <a:lnTo>
                    <a:pt x="1539" y="657"/>
                  </a:lnTo>
                  <a:lnTo>
                    <a:pt x="1566" y="683"/>
                  </a:lnTo>
                  <a:lnTo>
                    <a:pt x="1597" y="705"/>
                  </a:lnTo>
                  <a:lnTo>
                    <a:pt x="1641" y="740"/>
                  </a:lnTo>
                  <a:lnTo>
                    <a:pt x="1689" y="784"/>
                  </a:lnTo>
                  <a:lnTo>
                    <a:pt x="1725" y="820"/>
                  </a:lnTo>
                  <a:lnTo>
                    <a:pt x="1769" y="868"/>
                  </a:lnTo>
                  <a:lnTo>
                    <a:pt x="1795" y="903"/>
                  </a:lnTo>
                  <a:lnTo>
                    <a:pt x="1831" y="943"/>
                  </a:lnTo>
                  <a:lnTo>
                    <a:pt x="1866" y="987"/>
                  </a:lnTo>
                  <a:lnTo>
                    <a:pt x="1897" y="1031"/>
                  </a:lnTo>
                  <a:lnTo>
                    <a:pt x="1928" y="1080"/>
                  </a:lnTo>
                  <a:lnTo>
                    <a:pt x="1958" y="1124"/>
                  </a:lnTo>
                  <a:lnTo>
                    <a:pt x="1985" y="1177"/>
                  </a:lnTo>
                  <a:lnTo>
                    <a:pt x="2011" y="1217"/>
                  </a:lnTo>
                  <a:lnTo>
                    <a:pt x="2038" y="1275"/>
                  </a:lnTo>
                  <a:lnTo>
                    <a:pt x="2060" y="1323"/>
                  </a:lnTo>
                  <a:lnTo>
                    <a:pt x="2082" y="1376"/>
                  </a:lnTo>
                  <a:lnTo>
                    <a:pt x="2100" y="1438"/>
                  </a:lnTo>
                  <a:lnTo>
                    <a:pt x="2126" y="1509"/>
                  </a:lnTo>
                  <a:lnTo>
                    <a:pt x="2144" y="1575"/>
                  </a:lnTo>
                  <a:lnTo>
                    <a:pt x="2157" y="1641"/>
                  </a:lnTo>
                  <a:lnTo>
                    <a:pt x="2166" y="1707"/>
                  </a:lnTo>
                  <a:lnTo>
                    <a:pt x="2179" y="1786"/>
                  </a:lnTo>
                  <a:lnTo>
                    <a:pt x="2188" y="1883"/>
                  </a:lnTo>
                  <a:lnTo>
                    <a:pt x="2188" y="1958"/>
                  </a:lnTo>
                  <a:lnTo>
                    <a:pt x="2188" y="2033"/>
                  </a:lnTo>
                  <a:lnTo>
                    <a:pt x="2179" y="2104"/>
                  </a:lnTo>
                  <a:lnTo>
                    <a:pt x="2170" y="2174"/>
                  </a:lnTo>
                  <a:lnTo>
                    <a:pt x="2166" y="2241"/>
                  </a:lnTo>
                  <a:lnTo>
                    <a:pt x="2148" y="2316"/>
                  </a:lnTo>
                  <a:lnTo>
                    <a:pt x="2130" y="2391"/>
                  </a:lnTo>
                  <a:lnTo>
                    <a:pt x="2104" y="2470"/>
                  </a:lnTo>
                  <a:lnTo>
                    <a:pt x="1963" y="2025"/>
                  </a:lnTo>
                  <a:lnTo>
                    <a:pt x="1416" y="2117"/>
                  </a:lnTo>
                  <a:lnTo>
                    <a:pt x="1425" y="2038"/>
                  </a:lnTo>
                  <a:lnTo>
                    <a:pt x="1429" y="1989"/>
                  </a:lnTo>
                  <a:lnTo>
                    <a:pt x="1429" y="1936"/>
                  </a:lnTo>
                  <a:lnTo>
                    <a:pt x="1429" y="1875"/>
                  </a:lnTo>
                  <a:lnTo>
                    <a:pt x="1420" y="1817"/>
                  </a:lnTo>
                  <a:lnTo>
                    <a:pt x="1407" y="1751"/>
                  </a:lnTo>
                  <a:lnTo>
                    <a:pt x="1394" y="1694"/>
                  </a:lnTo>
                  <a:lnTo>
                    <a:pt x="1368" y="1637"/>
                  </a:lnTo>
                  <a:lnTo>
                    <a:pt x="1350" y="1584"/>
                  </a:lnTo>
                  <a:lnTo>
                    <a:pt x="1319" y="1535"/>
                  </a:lnTo>
                  <a:lnTo>
                    <a:pt x="1297" y="1495"/>
                  </a:lnTo>
                  <a:lnTo>
                    <a:pt x="1275" y="1465"/>
                  </a:lnTo>
                  <a:lnTo>
                    <a:pt x="1253" y="1434"/>
                  </a:lnTo>
                  <a:lnTo>
                    <a:pt x="1226" y="1403"/>
                  </a:lnTo>
                  <a:lnTo>
                    <a:pt x="1196" y="1368"/>
                  </a:lnTo>
                  <a:lnTo>
                    <a:pt x="1169" y="1345"/>
                  </a:lnTo>
                  <a:lnTo>
                    <a:pt x="1143" y="1315"/>
                  </a:lnTo>
                  <a:lnTo>
                    <a:pt x="1112" y="1293"/>
                  </a:lnTo>
                  <a:lnTo>
                    <a:pt x="1080" y="1266"/>
                  </a:lnTo>
                  <a:lnTo>
                    <a:pt x="1040" y="1240"/>
                  </a:lnTo>
                  <a:lnTo>
                    <a:pt x="1005" y="1217"/>
                  </a:lnTo>
                  <a:lnTo>
                    <a:pt x="978" y="1203"/>
                  </a:lnTo>
                  <a:lnTo>
                    <a:pt x="934" y="1177"/>
                  </a:lnTo>
                  <a:lnTo>
                    <a:pt x="899" y="1164"/>
                  </a:lnTo>
                  <a:lnTo>
                    <a:pt x="868" y="1150"/>
                  </a:lnTo>
                  <a:lnTo>
                    <a:pt x="833" y="1142"/>
                  </a:lnTo>
                  <a:lnTo>
                    <a:pt x="784" y="1128"/>
                  </a:lnTo>
                  <a:lnTo>
                    <a:pt x="736" y="1120"/>
                  </a:lnTo>
                  <a:lnTo>
                    <a:pt x="687" y="1115"/>
                  </a:lnTo>
                  <a:lnTo>
                    <a:pt x="639" y="1111"/>
                  </a:lnTo>
                  <a:lnTo>
                    <a:pt x="612" y="1111"/>
                  </a:lnTo>
                  <a:lnTo>
                    <a:pt x="612" y="1513"/>
                  </a:lnTo>
                  <a:lnTo>
                    <a:pt x="0" y="767"/>
                  </a:lnTo>
                  <a:lnTo>
                    <a:pt x="612" y="0"/>
                  </a:lnTo>
                  <a:lnTo>
                    <a:pt x="612" y="343"/>
                  </a:lnTo>
                  <a:lnTo>
                    <a:pt x="648" y="348"/>
                  </a:lnTo>
                  <a:lnTo>
                    <a:pt x="692" y="348"/>
                  </a:lnTo>
                  <a:lnTo>
                    <a:pt x="745" y="352"/>
                  </a:lnTo>
                  <a:lnTo>
                    <a:pt x="793" y="357"/>
                  </a:lnTo>
                  <a:lnTo>
                    <a:pt x="833" y="3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38360" y="1065240"/>
            <a:ext cx="1225800" cy="1279800"/>
            <a:chOff x="738360" y="1065240"/>
            <a:chExt cx="1225800" cy="1279800"/>
          </a:xfrm>
        </p:grpSpPr>
        <p:sp>
          <p:nvSpPr>
            <p:cNvPr id="47" name=""/>
            <p:cNvSpPr/>
            <p:nvPr/>
          </p:nvSpPr>
          <p:spPr>
            <a:xfrm>
              <a:off x="1147680" y="1065240"/>
              <a:ext cx="787680" cy="992520"/>
            </a:xfrm>
            <a:custGeom>
              <a:avLst/>
              <a:gdLst/>
              <a:ahLst/>
              <a:rect l="0" t="0" r="r" b="b"/>
              <a:pathLst>
                <a:path w="2188" h="2757">
                  <a:moveTo>
                    <a:pt x="833" y="361"/>
                  </a:moveTo>
                  <a:lnTo>
                    <a:pt x="864" y="366"/>
                  </a:lnTo>
                  <a:lnTo>
                    <a:pt x="903" y="374"/>
                  </a:lnTo>
                  <a:lnTo>
                    <a:pt x="943" y="383"/>
                  </a:lnTo>
                  <a:lnTo>
                    <a:pt x="970" y="392"/>
                  </a:lnTo>
                  <a:lnTo>
                    <a:pt x="1005" y="401"/>
                  </a:lnTo>
                  <a:lnTo>
                    <a:pt x="1036" y="410"/>
                  </a:lnTo>
                  <a:lnTo>
                    <a:pt x="1067" y="418"/>
                  </a:lnTo>
                  <a:lnTo>
                    <a:pt x="1099" y="427"/>
                  </a:lnTo>
                  <a:lnTo>
                    <a:pt x="1134" y="440"/>
                  </a:lnTo>
                  <a:lnTo>
                    <a:pt x="1173" y="458"/>
                  </a:lnTo>
                  <a:lnTo>
                    <a:pt x="1209" y="471"/>
                  </a:lnTo>
                  <a:lnTo>
                    <a:pt x="1244" y="485"/>
                  </a:lnTo>
                  <a:lnTo>
                    <a:pt x="1279" y="502"/>
                  </a:lnTo>
                  <a:lnTo>
                    <a:pt x="1319" y="520"/>
                  </a:lnTo>
                  <a:lnTo>
                    <a:pt x="1350" y="537"/>
                  </a:lnTo>
                  <a:lnTo>
                    <a:pt x="1381" y="555"/>
                  </a:lnTo>
                  <a:lnTo>
                    <a:pt x="1412" y="573"/>
                  </a:lnTo>
                  <a:lnTo>
                    <a:pt x="1438" y="595"/>
                  </a:lnTo>
                  <a:lnTo>
                    <a:pt x="1469" y="612"/>
                  </a:lnTo>
                  <a:lnTo>
                    <a:pt x="1504" y="639"/>
                  </a:lnTo>
                  <a:lnTo>
                    <a:pt x="1539" y="661"/>
                  </a:lnTo>
                  <a:lnTo>
                    <a:pt x="1566" y="683"/>
                  </a:lnTo>
                  <a:lnTo>
                    <a:pt x="1597" y="705"/>
                  </a:lnTo>
                  <a:lnTo>
                    <a:pt x="1641" y="740"/>
                  </a:lnTo>
                  <a:lnTo>
                    <a:pt x="1689" y="784"/>
                  </a:lnTo>
                  <a:lnTo>
                    <a:pt x="1725" y="820"/>
                  </a:lnTo>
                  <a:lnTo>
                    <a:pt x="1769" y="868"/>
                  </a:lnTo>
                  <a:lnTo>
                    <a:pt x="1795" y="903"/>
                  </a:lnTo>
                  <a:lnTo>
                    <a:pt x="1831" y="943"/>
                  </a:lnTo>
                  <a:lnTo>
                    <a:pt x="1866" y="987"/>
                  </a:lnTo>
                  <a:lnTo>
                    <a:pt x="1897" y="1031"/>
                  </a:lnTo>
                  <a:lnTo>
                    <a:pt x="1928" y="1080"/>
                  </a:lnTo>
                  <a:lnTo>
                    <a:pt x="1958" y="1124"/>
                  </a:lnTo>
                  <a:lnTo>
                    <a:pt x="1985" y="1177"/>
                  </a:lnTo>
                  <a:lnTo>
                    <a:pt x="2011" y="1217"/>
                  </a:lnTo>
                  <a:lnTo>
                    <a:pt x="2038" y="1274"/>
                  </a:lnTo>
                  <a:lnTo>
                    <a:pt x="2060" y="1322"/>
                  </a:lnTo>
                  <a:lnTo>
                    <a:pt x="2082" y="1375"/>
                  </a:lnTo>
                  <a:lnTo>
                    <a:pt x="2100" y="1438"/>
                  </a:lnTo>
                  <a:lnTo>
                    <a:pt x="2126" y="1509"/>
                  </a:lnTo>
                  <a:lnTo>
                    <a:pt x="2144" y="1575"/>
                  </a:lnTo>
                  <a:lnTo>
                    <a:pt x="2157" y="1641"/>
                  </a:lnTo>
                  <a:lnTo>
                    <a:pt x="2166" y="1707"/>
                  </a:lnTo>
                  <a:lnTo>
                    <a:pt x="2179" y="1786"/>
                  </a:lnTo>
                  <a:lnTo>
                    <a:pt x="2188" y="1888"/>
                  </a:lnTo>
                  <a:lnTo>
                    <a:pt x="2188" y="1963"/>
                  </a:lnTo>
                  <a:lnTo>
                    <a:pt x="2188" y="2038"/>
                  </a:lnTo>
                  <a:lnTo>
                    <a:pt x="2179" y="2104"/>
                  </a:lnTo>
                  <a:lnTo>
                    <a:pt x="2170" y="2174"/>
                  </a:lnTo>
                  <a:lnTo>
                    <a:pt x="2166" y="2241"/>
                  </a:lnTo>
                  <a:lnTo>
                    <a:pt x="2148" y="2316"/>
                  </a:lnTo>
                  <a:lnTo>
                    <a:pt x="2130" y="2391"/>
                  </a:lnTo>
                  <a:lnTo>
                    <a:pt x="2104" y="2470"/>
                  </a:lnTo>
                  <a:lnTo>
                    <a:pt x="2077" y="2545"/>
                  </a:lnTo>
                  <a:lnTo>
                    <a:pt x="2051" y="2615"/>
                  </a:lnTo>
                  <a:lnTo>
                    <a:pt x="2007" y="2686"/>
                  </a:lnTo>
                  <a:lnTo>
                    <a:pt x="1967" y="2757"/>
                  </a:lnTo>
                  <a:lnTo>
                    <a:pt x="1323" y="2382"/>
                  </a:lnTo>
                  <a:lnTo>
                    <a:pt x="1359" y="2311"/>
                  </a:lnTo>
                  <a:lnTo>
                    <a:pt x="1381" y="2258"/>
                  </a:lnTo>
                  <a:lnTo>
                    <a:pt x="1398" y="2201"/>
                  </a:lnTo>
                  <a:lnTo>
                    <a:pt x="1412" y="2144"/>
                  </a:lnTo>
                  <a:lnTo>
                    <a:pt x="1425" y="2091"/>
                  </a:lnTo>
                  <a:lnTo>
                    <a:pt x="1425" y="2042"/>
                  </a:lnTo>
                  <a:lnTo>
                    <a:pt x="1429" y="1989"/>
                  </a:lnTo>
                  <a:lnTo>
                    <a:pt x="1429" y="1936"/>
                  </a:lnTo>
                  <a:lnTo>
                    <a:pt x="1429" y="1875"/>
                  </a:lnTo>
                  <a:lnTo>
                    <a:pt x="1420" y="1817"/>
                  </a:lnTo>
                  <a:lnTo>
                    <a:pt x="1407" y="1751"/>
                  </a:lnTo>
                  <a:lnTo>
                    <a:pt x="1394" y="1694"/>
                  </a:lnTo>
                  <a:lnTo>
                    <a:pt x="1368" y="1637"/>
                  </a:lnTo>
                  <a:lnTo>
                    <a:pt x="1350" y="1584"/>
                  </a:lnTo>
                  <a:lnTo>
                    <a:pt x="1319" y="1535"/>
                  </a:lnTo>
                  <a:lnTo>
                    <a:pt x="1297" y="1495"/>
                  </a:lnTo>
                  <a:lnTo>
                    <a:pt x="1275" y="1465"/>
                  </a:lnTo>
                  <a:lnTo>
                    <a:pt x="1253" y="1434"/>
                  </a:lnTo>
                  <a:lnTo>
                    <a:pt x="1226" y="1403"/>
                  </a:lnTo>
                  <a:lnTo>
                    <a:pt x="1196" y="1367"/>
                  </a:lnTo>
                  <a:lnTo>
                    <a:pt x="1169" y="1344"/>
                  </a:lnTo>
                  <a:lnTo>
                    <a:pt x="1143" y="1314"/>
                  </a:lnTo>
                  <a:lnTo>
                    <a:pt x="1112" y="1292"/>
                  </a:lnTo>
                  <a:lnTo>
                    <a:pt x="1080" y="1265"/>
                  </a:lnTo>
                  <a:lnTo>
                    <a:pt x="1040" y="1239"/>
                  </a:lnTo>
                  <a:lnTo>
                    <a:pt x="1005" y="1217"/>
                  </a:lnTo>
                  <a:lnTo>
                    <a:pt x="978" y="1203"/>
                  </a:lnTo>
                  <a:lnTo>
                    <a:pt x="934" y="1177"/>
                  </a:lnTo>
                  <a:lnTo>
                    <a:pt x="899" y="1164"/>
                  </a:lnTo>
                  <a:lnTo>
                    <a:pt x="868" y="1150"/>
                  </a:lnTo>
                  <a:lnTo>
                    <a:pt x="833" y="1142"/>
                  </a:lnTo>
                  <a:lnTo>
                    <a:pt x="784" y="1128"/>
                  </a:lnTo>
                  <a:lnTo>
                    <a:pt x="736" y="1120"/>
                  </a:lnTo>
                  <a:lnTo>
                    <a:pt x="687" y="1115"/>
                  </a:lnTo>
                  <a:lnTo>
                    <a:pt x="639" y="1111"/>
                  </a:lnTo>
                  <a:lnTo>
                    <a:pt x="612" y="1111"/>
                  </a:lnTo>
                  <a:lnTo>
                    <a:pt x="612" y="1513"/>
                  </a:lnTo>
                  <a:lnTo>
                    <a:pt x="0" y="767"/>
                  </a:lnTo>
                  <a:lnTo>
                    <a:pt x="612" y="0"/>
                  </a:lnTo>
                  <a:lnTo>
                    <a:pt x="612" y="343"/>
                  </a:lnTo>
                  <a:lnTo>
                    <a:pt x="648" y="348"/>
                  </a:lnTo>
                  <a:lnTo>
                    <a:pt x="692" y="348"/>
                  </a:lnTo>
                  <a:lnTo>
                    <a:pt x="745" y="352"/>
                  </a:lnTo>
                  <a:lnTo>
                    <a:pt x="793" y="357"/>
                  </a:lnTo>
                  <a:lnTo>
                    <a:pt x="833" y="3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7640" y="1795320"/>
              <a:ext cx="1046520" cy="549720"/>
            </a:xfrm>
            <a:custGeom>
              <a:avLst/>
              <a:gdLst/>
              <a:ahLst/>
              <a:rect l="0" t="0" r="r" b="b"/>
              <a:pathLst>
                <a:path w="2907" h="1527">
                  <a:moveTo>
                    <a:pt x="1465" y="1510"/>
                  </a:moveTo>
                  <a:lnTo>
                    <a:pt x="1491" y="1505"/>
                  </a:lnTo>
                  <a:lnTo>
                    <a:pt x="1531" y="1501"/>
                  </a:lnTo>
                  <a:lnTo>
                    <a:pt x="1570" y="1492"/>
                  </a:lnTo>
                  <a:lnTo>
                    <a:pt x="1601" y="1483"/>
                  </a:lnTo>
                  <a:lnTo>
                    <a:pt x="1632" y="1474"/>
                  </a:lnTo>
                  <a:lnTo>
                    <a:pt x="1667" y="1466"/>
                  </a:lnTo>
                  <a:lnTo>
                    <a:pt x="1703" y="1457"/>
                  </a:lnTo>
                  <a:lnTo>
                    <a:pt x="1729" y="1448"/>
                  </a:lnTo>
                  <a:lnTo>
                    <a:pt x="1764" y="1435"/>
                  </a:lnTo>
                  <a:lnTo>
                    <a:pt x="1804" y="1421"/>
                  </a:lnTo>
                  <a:lnTo>
                    <a:pt x="1839" y="1404"/>
                  </a:lnTo>
                  <a:lnTo>
                    <a:pt x="1875" y="1391"/>
                  </a:lnTo>
                  <a:lnTo>
                    <a:pt x="1914" y="1373"/>
                  </a:lnTo>
                  <a:lnTo>
                    <a:pt x="1950" y="1355"/>
                  </a:lnTo>
                  <a:lnTo>
                    <a:pt x="1980" y="1338"/>
                  </a:lnTo>
                  <a:lnTo>
                    <a:pt x="2011" y="1320"/>
                  </a:lnTo>
                  <a:lnTo>
                    <a:pt x="2042" y="1302"/>
                  </a:lnTo>
                  <a:lnTo>
                    <a:pt x="2069" y="1280"/>
                  </a:lnTo>
                  <a:lnTo>
                    <a:pt x="2100" y="1263"/>
                  </a:lnTo>
                  <a:lnTo>
                    <a:pt x="2135" y="1241"/>
                  </a:lnTo>
                  <a:lnTo>
                    <a:pt x="2166" y="1214"/>
                  </a:lnTo>
                  <a:lnTo>
                    <a:pt x="2197" y="1192"/>
                  </a:lnTo>
                  <a:lnTo>
                    <a:pt x="2223" y="1174"/>
                  </a:lnTo>
                  <a:lnTo>
                    <a:pt x="2272" y="1134"/>
                  </a:lnTo>
                  <a:lnTo>
                    <a:pt x="2311" y="1099"/>
                  </a:lnTo>
                  <a:lnTo>
                    <a:pt x="2355" y="1059"/>
                  </a:lnTo>
                  <a:lnTo>
                    <a:pt x="2395" y="1010"/>
                  </a:lnTo>
                  <a:lnTo>
                    <a:pt x="2426" y="975"/>
                  </a:lnTo>
                  <a:lnTo>
                    <a:pt x="2461" y="935"/>
                  </a:lnTo>
                  <a:lnTo>
                    <a:pt x="2496" y="891"/>
                  </a:lnTo>
                  <a:lnTo>
                    <a:pt x="2527" y="847"/>
                  </a:lnTo>
                  <a:lnTo>
                    <a:pt x="2558" y="799"/>
                  </a:lnTo>
                  <a:lnTo>
                    <a:pt x="2593" y="746"/>
                  </a:lnTo>
                  <a:lnTo>
                    <a:pt x="2907" y="931"/>
                  </a:lnTo>
                  <a:lnTo>
                    <a:pt x="2602" y="0"/>
                  </a:lnTo>
                  <a:lnTo>
                    <a:pt x="1606" y="176"/>
                  </a:lnTo>
                  <a:lnTo>
                    <a:pt x="1941" y="366"/>
                  </a:lnTo>
                  <a:lnTo>
                    <a:pt x="1914" y="406"/>
                  </a:lnTo>
                  <a:lnTo>
                    <a:pt x="1883" y="441"/>
                  </a:lnTo>
                  <a:lnTo>
                    <a:pt x="1853" y="477"/>
                  </a:lnTo>
                  <a:lnTo>
                    <a:pt x="1826" y="508"/>
                  </a:lnTo>
                  <a:lnTo>
                    <a:pt x="1800" y="534"/>
                  </a:lnTo>
                  <a:lnTo>
                    <a:pt x="1773" y="561"/>
                  </a:lnTo>
                  <a:lnTo>
                    <a:pt x="1742" y="587"/>
                  </a:lnTo>
                  <a:lnTo>
                    <a:pt x="1707" y="609"/>
                  </a:lnTo>
                  <a:lnTo>
                    <a:pt x="1667" y="635"/>
                  </a:lnTo>
                  <a:lnTo>
                    <a:pt x="1637" y="658"/>
                  </a:lnTo>
                  <a:lnTo>
                    <a:pt x="1606" y="675"/>
                  </a:lnTo>
                  <a:lnTo>
                    <a:pt x="1566" y="697"/>
                  </a:lnTo>
                  <a:lnTo>
                    <a:pt x="1531" y="715"/>
                  </a:lnTo>
                  <a:lnTo>
                    <a:pt x="1495" y="724"/>
                  </a:lnTo>
                  <a:lnTo>
                    <a:pt x="1465" y="737"/>
                  </a:lnTo>
                  <a:lnTo>
                    <a:pt x="1415" y="750"/>
                  </a:lnTo>
                  <a:lnTo>
                    <a:pt x="1367" y="755"/>
                  </a:lnTo>
                  <a:lnTo>
                    <a:pt x="1318" y="759"/>
                  </a:lnTo>
                  <a:lnTo>
                    <a:pt x="1247" y="763"/>
                  </a:lnTo>
                  <a:lnTo>
                    <a:pt x="1155" y="763"/>
                  </a:lnTo>
                  <a:lnTo>
                    <a:pt x="1080" y="755"/>
                  </a:lnTo>
                  <a:lnTo>
                    <a:pt x="1018" y="741"/>
                  </a:lnTo>
                  <a:lnTo>
                    <a:pt x="943" y="719"/>
                  </a:lnTo>
                  <a:lnTo>
                    <a:pt x="877" y="688"/>
                  </a:lnTo>
                  <a:lnTo>
                    <a:pt x="806" y="658"/>
                  </a:lnTo>
                  <a:lnTo>
                    <a:pt x="749" y="618"/>
                  </a:lnTo>
                  <a:lnTo>
                    <a:pt x="692" y="565"/>
                  </a:lnTo>
                  <a:lnTo>
                    <a:pt x="0" y="966"/>
                  </a:lnTo>
                  <a:lnTo>
                    <a:pt x="30" y="997"/>
                  </a:lnTo>
                  <a:lnTo>
                    <a:pt x="70" y="1037"/>
                  </a:lnTo>
                  <a:lnTo>
                    <a:pt x="101" y="1072"/>
                  </a:lnTo>
                  <a:lnTo>
                    <a:pt x="136" y="1103"/>
                  </a:lnTo>
                  <a:lnTo>
                    <a:pt x="167" y="1134"/>
                  </a:lnTo>
                  <a:lnTo>
                    <a:pt x="211" y="1170"/>
                  </a:lnTo>
                  <a:lnTo>
                    <a:pt x="246" y="1197"/>
                  </a:lnTo>
                  <a:lnTo>
                    <a:pt x="282" y="1223"/>
                  </a:lnTo>
                  <a:lnTo>
                    <a:pt x="326" y="1249"/>
                  </a:lnTo>
                  <a:lnTo>
                    <a:pt x="366" y="1276"/>
                  </a:lnTo>
                  <a:lnTo>
                    <a:pt x="405" y="1302"/>
                  </a:lnTo>
                  <a:lnTo>
                    <a:pt x="445" y="1324"/>
                  </a:lnTo>
                  <a:lnTo>
                    <a:pt x="480" y="1346"/>
                  </a:lnTo>
                  <a:lnTo>
                    <a:pt x="520" y="1364"/>
                  </a:lnTo>
                  <a:lnTo>
                    <a:pt x="568" y="1391"/>
                  </a:lnTo>
                  <a:lnTo>
                    <a:pt x="617" y="1408"/>
                  </a:lnTo>
                  <a:lnTo>
                    <a:pt x="670" y="1430"/>
                  </a:lnTo>
                  <a:lnTo>
                    <a:pt x="709" y="1443"/>
                  </a:lnTo>
                  <a:lnTo>
                    <a:pt x="749" y="1461"/>
                  </a:lnTo>
                  <a:lnTo>
                    <a:pt x="793" y="1474"/>
                  </a:lnTo>
                  <a:lnTo>
                    <a:pt x="837" y="1483"/>
                  </a:lnTo>
                  <a:lnTo>
                    <a:pt x="877" y="1496"/>
                  </a:lnTo>
                  <a:lnTo>
                    <a:pt x="930" y="1505"/>
                  </a:lnTo>
                  <a:lnTo>
                    <a:pt x="978" y="1514"/>
                  </a:lnTo>
                  <a:lnTo>
                    <a:pt x="1031" y="1518"/>
                  </a:lnTo>
                  <a:lnTo>
                    <a:pt x="1084" y="1523"/>
                  </a:lnTo>
                  <a:lnTo>
                    <a:pt x="1124" y="1527"/>
                  </a:lnTo>
                  <a:lnTo>
                    <a:pt x="1177" y="1527"/>
                  </a:lnTo>
                  <a:lnTo>
                    <a:pt x="1234" y="1527"/>
                  </a:lnTo>
                  <a:lnTo>
                    <a:pt x="1278" y="1527"/>
                  </a:lnTo>
                  <a:lnTo>
                    <a:pt x="1322" y="1527"/>
                  </a:lnTo>
                  <a:lnTo>
                    <a:pt x="1375" y="1523"/>
                  </a:lnTo>
                  <a:lnTo>
                    <a:pt x="1419" y="1514"/>
                  </a:lnTo>
                  <a:lnTo>
                    <a:pt x="1465" y="1510"/>
                  </a:lnTo>
                  <a:close/>
                </a:path>
              </a:pathLst>
            </a:custGeom>
            <a:solidFill>
              <a:srgbClr val="00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8360" y="1198440"/>
              <a:ext cx="530640" cy="983160"/>
            </a:xfrm>
            <a:custGeom>
              <a:avLst/>
              <a:gdLst/>
              <a:ahLst/>
              <a:rect l="0" t="0" r="r" b="b"/>
              <a:pathLst>
                <a:path w="1474" h="2731">
                  <a:moveTo>
                    <a:pt x="1474" y="0"/>
                  </a:moveTo>
                  <a:lnTo>
                    <a:pt x="1443" y="4"/>
                  </a:lnTo>
                  <a:lnTo>
                    <a:pt x="1413" y="8"/>
                  </a:lnTo>
                  <a:lnTo>
                    <a:pt x="1369" y="22"/>
                  </a:lnTo>
                  <a:lnTo>
                    <a:pt x="1338" y="26"/>
                  </a:lnTo>
                  <a:lnTo>
                    <a:pt x="1302" y="35"/>
                  </a:lnTo>
                  <a:lnTo>
                    <a:pt x="1272" y="48"/>
                  </a:lnTo>
                  <a:lnTo>
                    <a:pt x="1236" y="57"/>
                  </a:lnTo>
                  <a:lnTo>
                    <a:pt x="1205" y="66"/>
                  </a:lnTo>
                  <a:lnTo>
                    <a:pt x="1174" y="79"/>
                  </a:lnTo>
                  <a:lnTo>
                    <a:pt x="1130" y="92"/>
                  </a:lnTo>
                  <a:lnTo>
                    <a:pt x="1099" y="110"/>
                  </a:lnTo>
                  <a:lnTo>
                    <a:pt x="1063" y="123"/>
                  </a:lnTo>
                  <a:lnTo>
                    <a:pt x="1028" y="141"/>
                  </a:lnTo>
                  <a:lnTo>
                    <a:pt x="988" y="158"/>
                  </a:lnTo>
                  <a:lnTo>
                    <a:pt x="957" y="176"/>
                  </a:lnTo>
                  <a:lnTo>
                    <a:pt x="927" y="194"/>
                  </a:lnTo>
                  <a:lnTo>
                    <a:pt x="896" y="211"/>
                  </a:lnTo>
                  <a:lnTo>
                    <a:pt x="869" y="233"/>
                  </a:lnTo>
                  <a:lnTo>
                    <a:pt x="838" y="251"/>
                  </a:lnTo>
                  <a:lnTo>
                    <a:pt x="803" y="273"/>
                  </a:lnTo>
                  <a:lnTo>
                    <a:pt x="768" y="299"/>
                  </a:lnTo>
                  <a:lnTo>
                    <a:pt x="741" y="321"/>
                  </a:lnTo>
                  <a:lnTo>
                    <a:pt x="710" y="343"/>
                  </a:lnTo>
                  <a:lnTo>
                    <a:pt x="666" y="379"/>
                  </a:lnTo>
                  <a:lnTo>
                    <a:pt x="618" y="423"/>
                  </a:lnTo>
                  <a:lnTo>
                    <a:pt x="583" y="458"/>
                  </a:lnTo>
                  <a:lnTo>
                    <a:pt x="538" y="507"/>
                  </a:lnTo>
                  <a:lnTo>
                    <a:pt x="508" y="542"/>
                  </a:lnTo>
                  <a:lnTo>
                    <a:pt x="477" y="582"/>
                  </a:lnTo>
                  <a:lnTo>
                    <a:pt x="437" y="626"/>
                  </a:lnTo>
                  <a:lnTo>
                    <a:pt x="411" y="670"/>
                  </a:lnTo>
                  <a:lnTo>
                    <a:pt x="380" y="719"/>
                  </a:lnTo>
                  <a:lnTo>
                    <a:pt x="348" y="763"/>
                  </a:lnTo>
                  <a:lnTo>
                    <a:pt x="317" y="812"/>
                  </a:lnTo>
                  <a:lnTo>
                    <a:pt x="291" y="856"/>
                  </a:lnTo>
                  <a:lnTo>
                    <a:pt x="268" y="909"/>
                  </a:lnTo>
                  <a:lnTo>
                    <a:pt x="246" y="962"/>
                  </a:lnTo>
                  <a:lnTo>
                    <a:pt x="224" y="1015"/>
                  </a:lnTo>
                  <a:lnTo>
                    <a:pt x="207" y="1072"/>
                  </a:lnTo>
                  <a:lnTo>
                    <a:pt x="180" y="1147"/>
                  </a:lnTo>
                  <a:lnTo>
                    <a:pt x="163" y="1213"/>
                  </a:lnTo>
                  <a:lnTo>
                    <a:pt x="149" y="1279"/>
                  </a:lnTo>
                  <a:lnTo>
                    <a:pt x="141" y="1345"/>
                  </a:lnTo>
                  <a:lnTo>
                    <a:pt x="127" y="1425"/>
                  </a:lnTo>
                  <a:lnTo>
                    <a:pt x="119" y="1522"/>
                  </a:lnTo>
                  <a:lnTo>
                    <a:pt x="119" y="1597"/>
                  </a:lnTo>
                  <a:lnTo>
                    <a:pt x="119" y="1672"/>
                  </a:lnTo>
                  <a:lnTo>
                    <a:pt x="127" y="1747"/>
                  </a:lnTo>
                  <a:lnTo>
                    <a:pt x="136" y="1813"/>
                  </a:lnTo>
                  <a:lnTo>
                    <a:pt x="141" y="1883"/>
                  </a:lnTo>
                  <a:lnTo>
                    <a:pt x="158" y="1954"/>
                  </a:lnTo>
                  <a:lnTo>
                    <a:pt x="176" y="2029"/>
                  </a:lnTo>
                  <a:lnTo>
                    <a:pt x="202" y="2109"/>
                  </a:lnTo>
                  <a:lnTo>
                    <a:pt x="229" y="2184"/>
                  </a:lnTo>
                  <a:lnTo>
                    <a:pt x="255" y="2255"/>
                  </a:lnTo>
                  <a:lnTo>
                    <a:pt x="291" y="2325"/>
                  </a:lnTo>
                  <a:lnTo>
                    <a:pt x="330" y="2392"/>
                  </a:lnTo>
                  <a:lnTo>
                    <a:pt x="0" y="2581"/>
                  </a:lnTo>
                  <a:lnTo>
                    <a:pt x="1010" y="2731"/>
                  </a:lnTo>
                  <a:lnTo>
                    <a:pt x="1382" y="1800"/>
                  </a:lnTo>
                  <a:lnTo>
                    <a:pt x="993" y="2007"/>
                  </a:lnTo>
                  <a:lnTo>
                    <a:pt x="953" y="1945"/>
                  </a:lnTo>
                  <a:lnTo>
                    <a:pt x="931" y="1892"/>
                  </a:lnTo>
                  <a:lnTo>
                    <a:pt x="909" y="1839"/>
                  </a:lnTo>
                  <a:lnTo>
                    <a:pt x="896" y="1782"/>
                  </a:lnTo>
                  <a:lnTo>
                    <a:pt x="887" y="1729"/>
                  </a:lnTo>
                  <a:lnTo>
                    <a:pt x="882" y="1681"/>
                  </a:lnTo>
                  <a:lnTo>
                    <a:pt x="878" y="1628"/>
                  </a:lnTo>
                  <a:lnTo>
                    <a:pt x="878" y="1575"/>
                  </a:lnTo>
                  <a:lnTo>
                    <a:pt x="878" y="1513"/>
                  </a:lnTo>
                  <a:lnTo>
                    <a:pt x="887" y="1456"/>
                  </a:lnTo>
                  <a:lnTo>
                    <a:pt x="900" y="1385"/>
                  </a:lnTo>
                  <a:lnTo>
                    <a:pt x="913" y="1332"/>
                  </a:lnTo>
                  <a:lnTo>
                    <a:pt x="940" y="1275"/>
                  </a:lnTo>
                  <a:lnTo>
                    <a:pt x="957" y="1222"/>
                  </a:lnTo>
                  <a:lnTo>
                    <a:pt x="988" y="1173"/>
                  </a:lnTo>
                  <a:lnTo>
                    <a:pt x="1010" y="1134"/>
                  </a:lnTo>
                  <a:lnTo>
                    <a:pt x="1032" y="1103"/>
                  </a:lnTo>
                  <a:lnTo>
                    <a:pt x="1054" y="1072"/>
                  </a:lnTo>
                  <a:lnTo>
                    <a:pt x="1081" y="1037"/>
                  </a:lnTo>
                  <a:lnTo>
                    <a:pt x="1113" y="1006"/>
                  </a:lnTo>
                  <a:lnTo>
                    <a:pt x="1139" y="984"/>
                  </a:lnTo>
                  <a:lnTo>
                    <a:pt x="1166" y="953"/>
                  </a:lnTo>
                  <a:lnTo>
                    <a:pt x="1192" y="931"/>
                  </a:lnTo>
                  <a:lnTo>
                    <a:pt x="1227" y="904"/>
                  </a:lnTo>
                  <a:lnTo>
                    <a:pt x="1267" y="878"/>
                  </a:lnTo>
                  <a:lnTo>
                    <a:pt x="1302" y="856"/>
                  </a:lnTo>
                  <a:lnTo>
                    <a:pt x="1329" y="838"/>
                  </a:lnTo>
                  <a:lnTo>
                    <a:pt x="1369" y="816"/>
                  </a:lnTo>
                  <a:lnTo>
                    <a:pt x="1413" y="799"/>
                  </a:lnTo>
                  <a:lnTo>
                    <a:pt x="1474" y="781"/>
                  </a:lnTo>
                  <a:lnTo>
                    <a:pt x="147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47680" y="1065240"/>
              <a:ext cx="787680" cy="889200"/>
            </a:xfrm>
            <a:custGeom>
              <a:avLst/>
              <a:gdLst/>
              <a:ahLst/>
              <a:rect l="0" t="0" r="r" b="b"/>
              <a:pathLst>
                <a:path w="2188" h="2470">
                  <a:moveTo>
                    <a:pt x="833" y="361"/>
                  </a:moveTo>
                  <a:lnTo>
                    <a:pt x="864" y="366"/>
                  </a:lnTo>
                  <a:lnTo>
                    <a:pt x="903" y="374"/>
                  </a:lnTo>
                  <a:lnTo>
                    <a:pt x="943" y="383"/>
                  </a:lnTo>
                  <a:lnTo>
                    <a:pt x="970" y="392"/>
                  </a:lnTo>
                  <a:lnTo>
                    <a:pt x="1005" y="401"/>
                  </a:lnTo>
                  <a:lnTo>
                    <a:pt x="1036" y="410"/>
                  </a:lnTo>
                  <a:lnTo>
                    <a:pt x="1067" y="418"/>
                  </a:lnTo>
                  <a:lnTo>
                    <a:pt x="1099" y="427"/>
                  </a:lnTo>
                  <a:lnTo>
                    <a:pt x="1134" y="440"/>
                  </a:lnTo>
                  <a:lnTo>
                    <a:pt x="1173" y="458"/>
                  </a:lnTo>
                  <a:lnTo>
                    <a:pt x="1209" y="471"/>
                  </a:lnTo>
                  <a:lnTo>
                    <a:pt x="1244" y="485"/>
                  </a:lnTo>
                  <a:lnTo>
                    <a:pt x="1279" y="502"/>
                  </a:lnTo>
                  <a:lnTo>
                    <a:pt x="1319" y="520"/>
                  </a:lnTo>
                  <a:lnTo>
                    <a:pt x="1350" y="537"/>
                  </a:lnTo>
                  <a:lnTo>
                    <a:pt x="1381" y="555"/>
                  </a:lnTo>
                  <a:lnTo>
                    <a:pt x="1412" y="573"/>
                  </a:lnTo>
                  <a:lnTo>
                    <a:pt x="1438" y="595"/>
                  </a:lnTo>
                  <a:lnTo>
                    <a:pt x="1469" y="612"/>
                  </a:lnTo>
                  <a:lnTo>
                    <a:pt x="1504" y="635"/>
                  </a:lnTo>
                  <a:lnTo>
                    <a:pt x="1539" y="657"/>
                  </a:lnTo>
                  <a:lnTo>
                    <a:pt x="1566" y="683"/>
                  </a:lnTo>
                  <a:lnTo>
                    <a:pt x="1597" y="705"/>
                  </a:lnTo>
                  <a:lnTo>
                    <a:pt x="1641" y="740"/>
                  </a:lnTo>
                  <a:lnTo>
                    <a:pt x="1689" y="784"/>
                  </a:lnTo>
                  <a:lnTo>
                    <a:pt x="1725" y="820"/>
                  </a:lnTo>
                  <a:lnTo>
                    <a:pt x="1769" y="868"/>
                  </a:lnTo>
                  <a:lnTo>
                    <a:pt x="1795" y="903"/>
                  </a:lnTo>
                  <a:lnTo>
                    <a:pt x="1831" y="943"/>
                  </a:lnTo>
                  <a:lnTo>
                    <a:pt x="1866" y="987"/>
                  </a:lnTo>
                  <a:lnTo>
                    <a:pt x="1897" y="1031"/>
                  </a:lnTo>
                  <a:lnTo>
                    <a:pt x="1928" y="1080"/>
                  </a:lnTo>
                  <a:lnTo>
                    <a:pt x="1958" y="1124"/>
                  </a:lnTo>
                  <a:lnTo>
                    <a:pt x="1985" y="1177"/>
                  </a:lnTo>
                  <a:lnTo>
                    <a:pt x="2011" y="1217"/>
                  </a:lnTo>
                  <a:lnTo>
                    <a:pt x="2038" y="1275"/>
                  </a:lnTo>
                  <a:lnTo>
                    <a:pt x="2060" y="1323"/>
                  </a:lnTo>
                  <a:lnTo>
                    <a:pt x="2082" y="1376"/>
                  </a:lnTo>
                  <a:lnTo>
                    <a:pt x="2100" y="1438"/>
                  </a:lnTo>
                  <a:lnTo>
                    <a:pt x="2126" y="1509"/>
                  </a:lnTo>
                  <a:lnTo>
                    <a:pt x="2144" y="1575"/>
                  </a:lnTo>
                  <a:lnTo>
                    <a:pt x="2157" y="1641"/>
                  </a:lnTo>
                  <a:lnTo>
                    <a:pt x="2166" y="1707"/>
                  </a:lnTo>
                  <a:lnTo>
                    <a:pt x="2179" y="1786"/>
                  </a:lnTo>
                  <a:lnTo>
                    <a:pt x="2188" y="1883"/>
                  </a:lnTo>
                  <a:lnTo>
                    <a:pt x="2188" y="1958"/>
                  </a:lnTo>
                  <a:lnTo>
                    <a:pt x="2188" y="2033"/>
                  </a:lnTo>
                  <a:lnTo>
                    <a:pt x="2179" y="2104"/>
                  </a:lnTo>
                  <a:lnTo>
                    <a:pt x="2170" y="2174"/>
                  </a:lnTo>
                  <a:lnTo>
                    <a:pt x="2166" y="2241"/>
                  </a:lnTo>
                  <a:lnTo>
                    <a:pt x="2148" y="2316"/>
                  </a:lnTo>
                  <a:lnTo>
                    <a:pt x="2130" y="2391"/>
                  </a:lnTo>
                  <a:lnTo>
                    <a:pt x="2104" y="2470"/>
                  </a:lnTo>
                  <a:lnTo>
                    <a:pt x="1963" y="2025"/>
                  </a:lnTo>
                  <a:lnTo>
                    <a:pt x="1416" y="2117"/>
                  </a:lnTo>
                  <a:lnTo>
                    <a:pt x="1425" y="2038"/>
                  </a:lnTo>
                  <a:lnTo>
                    <a:pt x="1429" y="1989"/>
                  </a:lnTo>
                  <a:lnTo>
                    <a:pt x="1429" y="1936"/>
                  </a:lnTo>
                  <a:lnTo>
                    <a:pt x="1429" y="1875"/>
                  </a:lnTo>
                  <a:lnTo>
                    <a:pt x="1420" y="1817"/>
                  </a:lnTo>
                  <a:lnTo>
                    <a:pt x="1407" y="1751"/>
                  </a:lnTo>
                  <a:lnTo>
                    <a:pt x="1394" y="1694"/>
                  </a:lnTo>
                  <a:lnTo>
                    <a:pt x="1368" y="1637"/>
                  </a:lnTo>
                  <a:lnTo>
                    <a:pt x="1350" y="1584"/>
                  </a:lnTo>
                  <a:lnTo>
                    <a:pt x="1319" y="1535"/>
                  </a:lnTo>
                  <a:lnTo>
                    <a:pt x="1297" y="1495"/>
                  </a:lnTo>
                  <a:lnTo>
                    <a:pt x="1275" y="1465"/>
                  </a:lnTo>
                  <a:lnTo>
                    <a:pt x="1253" y="1434"/>
                  </a:lnTo>
                  <a:lnTo>
                    <a:pt x="1226" y="1403"/>
                  </a:lnTo>
                  <a:lnTo>
                    <a:pt x="1196" y="1368"/>
                  </a:lnTo>
                  <a:lnTo>
                    <a:pt x="1169" y="1345"/>
                  </a:lnTo>
                  <a:lnTo>
                    <a:pt x="1143" y="1315"/>
                  </a:lnTo>
                  <a:lnTo>
                    <a:pt x="1112" y="1293"/>
                  </a:lnTo>
                  <a:lnTo>
                    <a:pt x="1080" y="1266"/>
                  </a:lnTo>
                  <a:lnTo>
                    <a:pt x="1040" y="1240"/>
                  </a:lnTo>
                  <a:lnTo>
                    <a:pt x="1005" y="1217"/>
                  </a:lnTo>
                  <a:lnTo>
                    <a:pt x="978" y="1203"/>
                  </a:lnTo>
                  <a:lnTo>
                    <a:pt x="934" y="1177"/>
                  </a:lnTo>
                  <a:lnTo>
                    <a:pt x="899" y="1164"/>
                  </a:lnTo>
                  <a:lnTo>
                    <a:pt x="868" y="1150"/>
                  </a:lnTo>
                  <a:lnTo>
                    <a:pt x="833" y="1142"/>
                  </a:lnTo>
                  <a:lnTo>
                    <a:pt x="784" y="1128"/>
                  </a:lnTo>
                  <a:lnTo>
                    <a:pt x="736" y="1120"/>
                  </a:lnTo>
                  <a:lnTo>
                    <a:pt x="687" y="1115"/>
                  </a:lnTo>
                  <a:lnTo>
                    <a:pt x="639" y="1111"/>
                  </a:lnTo>
                  <a:lnTo>
                    <a:pt x="612" y="1111"/>
                  </a:lnTo>
                  <a:lnTo>
                    <a:pt x="612" y="1513"/>
                  </a:lnTo>
                  <a:lnTo>
                    <a:pt x="0" y="767"/>
                  </a:lnTo>
                  <a:lnTo>
                    <a:pt x="612" y="0"/>
                  </a:lnTo>
                  <a:lnTo>
                    <a:pt x="612" y="343"/>
                  </a:lnTo>
                  <a:lnTo>
                    <a:pt x="648" y="348"/>
                  </a:lnTo>
                  <a:lnTo>
                    <a:pt x="692" y="348"/>
                  </a:lnTo>
                  <a:lnTo>
                    <a:pt x="745" y="352"/>
                  </a:lnTo>
                  <a:lnTo>
                    <a:pt x="793" y="357"/>
                  </a:lnTo>
                  <a:lnTo>
                    <a:pt x="833" y="3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819520" y="114300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rsonalentwicklung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096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rstellung unseres neuen Kursangeb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676600" y="45720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iterbildung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..ist Investition in die Zukun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..ist ein Erfordernis unserer 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..fördert die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14600" y="457200"/>
            <a:ext cx="5952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urse für Führungskräfte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bst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t: Berghütte bei Klosters/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ervision und Co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t: Hotel König Ludwig/Star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514600" y="457200"/>
            <a:ext cx="5952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urse für Führungskräfte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lle Kraft voraus: Mehr Power durch Zeit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hmen der Veranstaltung: 3 Tage auf dem Segelschiff Nauti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in: noch 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676600" y="45720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urse für das mittlere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oenergetik und Med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nfliktgespräche erfolgreich mei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führung in die Netzplantech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t: Hotel Strandperle/Sy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ine: Mitte Aug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676600" y="45720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urse für den Assistenz- und Sekretariatsbere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ktiv telefon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ashkurs Wirtschaftsengl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eitgewinn durch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t: Hotel Ideal/Schwetz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in: Ende 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rdt Verlags GmbH</dc:creator>
  <dc:description/>
  <dc:language>en-US</dc:language>
  <cp:lastModifiedBy>Herdt Verlags GmbH</cp:lastModifiedBy>
  <cp:revision>0</cp:revision>
  <dc:subject/>
  <dc:title>No Slide Title</dc:title>
</cp:coreProperties>
</file>