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92900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DEF0-0CFF-4307-BB96-E996123C3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ED9E-7BD8-4DB5-A796-F06BD1E8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6FC5-94D0-433C-B57F-83D9A8C4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1D87-E666-4EDA-851E-0B27B1C81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BE6E-68A5-47DA-8C75-4D7414543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84098-4156-4266-BA53-BE8072DD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5B73-D23F-4D87-834C-20E47E31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42A8-F640-4AF7-8AC3-38C3700C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B85C-EE5F-4B79-B070-B39DA686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55F9-24B8-4B8F-AAA4-3A2A74EE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D369-7949-4F44-B703-945F99C5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B3BC-C973-4F7C-AEE3-14104DE0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FD71-C65C-4625-AF0A-CE547D12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E774F-EA6C-4CB6-94F4-30987AAE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FABC-A86A-493E-BE83-0A196DC6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5656-7486-4A1C-B3F5-19803937D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BDD2-AD4C-4FED-A644-51C46421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0640-BECE-44E9-80C8-521B003E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1D75-0FE4-43D7-80A9-5F521405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F955-5755-44B3-845A-A7F6BD52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CEF3-8203-4D51-8B6E-39880F5C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A57E-A3B0-44EC-9993-28D08368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3F23-E80B-45FA-B507-81EBC6AB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7985-F0DB-47EA-A465-17E883CB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7E7B-25FF-415B-AA3A-23BE081158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313F-C0B7-4725-AA92-E343C3D703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Marketing-Berich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ono &amp; Poly 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Unser Weg in die Zukunf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rhöhung des Marktanteils durch Ausbau der Vertriebswe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Investitionen im Bereich Forschung und Entwickl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eteiligung an Gemeinschaftsforschu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nnovations-Team, Münc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ergabe von Auftragsforschu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Zie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rreichen der Marktführersch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usweitung des Exports nach Westeuro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ntwicklung innovativer Produk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Jetzige Situ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ßer Konkurrenzdru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u wenig Neukund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he Abhängigkeit von Großhändle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ückläufige Umsatzzahl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Umsatzübersich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89040" y="1996920"/>
          <a:ext cx="7734240" cy="40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996920"/>
                    <a:ext cx="773424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Gründe für diese Situ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kaufsgebiete sind zu gro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önnen nicht optimal betreut werd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durch unzufriedene Kund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nig Neuentwicklun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Mögliche Alternative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Vorschlä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Neustrukturierung der Absatzgebie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ersonalbedarf im Außendienst erhö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esondere Betreuung des Großhand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Verstärkte Neukundenwerb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erbesserung des Kundendiens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Hot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0130-Numm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24-Stunden-Liefer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Empfehlu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ivation der Mitarbeiter du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msatzpräm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ulung und Weiterbildu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nsive Akquisition von Großkund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stärkte Werbung in neuen Medi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tgerechte Preisgestalt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genrabatte und Bo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22Z</dcterms:created>
  <dc:creator>W. Spath</dc:creator>
  <dc:description/>
  <dc:language>en-US</dc:language>
  <cp:lastModifiedBy>Petra Fochler</cp:lastModifiedBy>
  <cp:lastPrinted>1998-03-15T18:32:10Z</cp:lastPrinted>
  <dcterms:modified xsi:type="dcterms:W3CDTF">1998-11-05T10:03:20Z</dcterms:modified>
  <cp:revision>18</cp:revision>
  <dc:subject/>
  <dc:title>Empfehlung einer Strategie</dc:title>
</cp:coreProperties>
</file>