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CD4-32F4-4279-A5A7-0A02AEFC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72D-3CB0-4788-AF64-BD2DABB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98D-C2A1-4675-A2BB-402AA284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035-909D-4E22-AF22-6F421CCF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70D0-01E7-4664-BD79-14525721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7670-5D42-412C-83CA-13588F7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528-C494-4121-A637-DE00508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8051-7A77-4DCC-A844-A20CFF8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340-B2D8-4E79-82B6-B44BDFC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C2B-F822-4204-ABF1-D69A8C28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37B2-064F-40DE-AF51-DE3A602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0ED-611D-43E5-B1D5-A557545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4C90-18B6-427C-8D83-574654B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BA00-C976-451A-A431-F94A70E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2E7C-304B-4C6D-A035-19174D56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EA5-1746-4152-9DFB-E1720C26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A2F4-262C-40A1-912C-DE47CEB0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BB5-DC92-4135-B205-AFA8CE9A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562-604F-415A-A32A-436B2A37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24C-9D75-41FC-8EB1-EBC1FC6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C3D-EC99-4AC2-9BBB-A600238F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E99-6917-449A-8E20-3745262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3F-2143-4811-970F-361E5CC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73E-8152-4165-8380-79ACFB4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613E-CDB3-42CE-8E06-F6F1BC7387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172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AE7-4D59-4528-B384-F1EAF60729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Unser neues Modell: Der Sportschuh "Sprinter"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ktiv-Schuh Gmb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ktiv unterwegs mit Aktiv-Schuh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Übersicht unserer Ziel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Präsentation des Modells "Sprinter" auf der Herbstmes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Eroberung neuer Kundengrup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usbau unseres Marktantei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Kundenwünsch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trapazierfähigke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equeme Paßfor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odisches Ausseh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usgeglichenes Preis-/Leistungsverhältn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Erfüllung der Kundenwünsch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trapazierfähigkeit durch Verwendung hochwertiger Material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Tragekomfort durch Luftpolsterein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odische Akzente durch bunte Zierstepper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ittlere Preis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Was ist neu am "Sprinter"?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pezialsohle mit federnden Nop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Reißfeste Schnürsenk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Luftpolsterein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Nächster Schritt: Erarbeitung einer Marketingstrategi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Gestaltung des Messestan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Werbebeila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Fernsehspo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09:41:08Z</dcterms:created>
  <dc:creator>Petra Fochler</dc:creator>
  <dc:description/>
  <dc:language>en-US</dc:language>
  <cp:lastModifiedBy>Petra Fochler</cp:lastModifiedBy>
  <cp:lastPrinted>1998-10-26T09:42:04Z</cp:lastPrinted>
  <dcterms:modified xsi:type="dcterms:W3CDTF">1998-10-26T10:51:28Z</dcterms:modified>
  <cp:revision>3</cp:revision>
  <dc:subject/>
  <dc:title>Unser neues Modell: Der Sportschuh "Sprinter"</dc:title>
</cp:coreProperties>
</file>