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AC8-5F2B-4440-8BAF-5E18549D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1F0-2899-45C7-863F-15C6C6CC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E51-C35D-4A80-9758-03D1D6D3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40A-B553-4D5E-8FCD-80AF06FF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707-5C0E-4AA2-92CE-E169DC81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33D-8EB0-4DC3-A934-53FB00A0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945-C446-49E1-A80A-6917CE56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F05-EDE3-41BE-A8A8-3A9C923F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2F8-B42D-4B39-8FBA-10FFD584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633-A47C-45B6-B6C0-B00A5489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A26-B5C0-43A4-B3AD-4F9E3731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E75-E474-486A-A2EE-DA75C4A4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F176-5ABA-4C1E-8AD6-CF79F47CF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berstunden im 4. Quar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09:29:54Z</dcterms:created>
  <dc:creator>Petra Fochler</dc:creator>
  <dc:description/>
  <dc:language>en-US</dc:language>
  <cp:lastModifiedBy>Mitarbeiter</cp:lastModifiedBy>
  <dcterms:modified xsi:type="dcterms:W3CDTF">1998-10-26T10:50:15Z</dcterms:modified>
  <cp:revision>2</cp:revision>
  <dc:subject/>
  <dc:title>Überstunden im 4. Quartal</dc:title>
</cp:coreProperties>
</file>