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E1E-F3F3-4360-9699-46F9C15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54D-A118-4F91-AE3C-18894B4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973-9371-4C36-B4E3-EE3FE372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88A-61F5-4831-B7BF-8B9E3EC4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B7D-5019-4E87-8438-EFC3F2B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EF0-5846-4EAF-8994-92B6F240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F4E-6486-4E95-88D6-FB690089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FAE-7734-428B-AA80-FBB67C8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A4E-CC04-4538-A6B9-24F61485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70E-34D2-41F0-A5E8-DD5A7DA4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FA8-E8AB-4F2C-8144-C01B0C75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473-7DF4-410B-96FF-FA3EB4B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2306-86E6-4D9C-8FA7-C1E91016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Verkaufsfördernde Fak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2971800"/>
            <a:ext cx="1676160" cy="1676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9051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pa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0292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triebs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429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429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4956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4956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1814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81440" y="2895480"/>
            <a:ext cx="90144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38840" y="2895480"/>
            <a:ext cx="85248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71800" y="42667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028840" y="42667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09:29:00Z</dcterms:created>
  <dc:creator>Petra Fochler</dc:creator>
  <dc:description/>
  <dc:language>en-US</dc:language>
  <cp:lastModifiedBy>Mitarbeiter</cp:lastModifiedBy>
  <cp:lastPrinted>1998-09-30T08:26:42Z</cp:lastPrinted>
  <dcterms:modified xsi:type="dcterms:W3CDTF">1999-04-06T11:39:21Z</dcterms:modified>
  <cp:revision>2</cp:revision>
  <dc:subject/>
  <dc:title>Verkaufsfördernde Faktoren</dc:title>
</cp:coreProperties>
</file>