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7BB-AEEA-4B6F-AB75-A48B33E8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DC4-CAC1-4124-9524-C991F971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D42-545A-40B3-BD4D-DE1E3E6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899-536C-405B-8CC2-A7C88189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73D-1926-4AE4-99C0-AE66515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3E41-AF7B-4875-9FA2-7A7A3DE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EC39-3426-441F-840B-F2180BFD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B684-BECB-483E-AA55-7E4FB0D0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229-98E3-4B86-9E82-19B4DB54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DB0-502D-4CF4-A345-3125EEA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1ED-53BA-471B-A26A-A2CC954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9A7-FBB2-4550-B0E1-0454417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58F-C8AC-473D-8032-A32EDB7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EFC8-1C25-4066-A233-3684B6C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DAC-2651-4AEE-91B6-0045F4FD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AA53-7AF6-4332-86C7-8E128B47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6EB-0C80-4B10-B187-E3044234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343-AA2B-4B51-AB24-CF27B19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AD6-D4DC-4A50-B92D-3E2B04CD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AE8-5F75-400E-A624-191C06D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6BB-8330-4C8B-A57D-17DB60B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5FD-C1C1-4E43-8ABA-BA739762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AE6-D281-4900-8B5C-18A8A80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817-DAA4-4279-808F-D376270A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431A-82B0-430F-8168-02667DE41F4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5FD2-7224-4142-B04F-54F3B511725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irmenentwicklung 1999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Sanoplus Arzneimitt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00800" y="4748040"/>
          <a:ext cx="2438280" cy="15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748040"/>
                    <a:ext cx="243828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nsere Ziele für 1999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eigerung des Gewin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nkung der Produktionskost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cherung der Marktpo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rweiterung der Entwicklungsabteilu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nbau des Hauptgebä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Steigerung des Gewinn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tive Faktor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nkende Rohstoffpre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ationalisierung der Produk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ünstigere Bezugsquellen für Verpackung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gative Faktor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agnierender Absat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unehmende Konkurren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hrausgaben für Werbu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Kosten für den Anba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ktueller Personalstand Entwicklungsabteilu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8680" y="2502000"/>
          <a:ext cx="8701200" cy="26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2502000"/>
                    <a:ext cx="87012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Raumplanu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800" y="2063880"/>
          <a:ext cx="7678800" cy="410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800" y="2063880"/>
                    <a:ext cx="76788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ntwicklungskoste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81080"/>
          <a:ext cx="7763040" cy="41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7763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Herdt Verlags GmbH</dc:creator>
  <dc:description/>
  <dc:language>en-US</dc:language>
  <cp:lastModifiedBy>Mitarbeiter</cp:lastModifiedBy>
  <cp:lastPrinted>1995-11-30T17:43:40Z</cp:lastPrinted>
  <dcterms:modified xsi:type="dcterms:W3CDTF">1998-11-18T15:55:29Z</dcterms:modified>
  <cp:revision>9</cp:revision>
  <dc:subject/>
  <dc:title>Firmenentwicklung 1996</dc:title>
</cp:coreProperties>
</file>